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102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9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8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71.xml.rels" ContentType="application/vnd.openxmlformats-package.relationships+xml"/>
  <Override PartName="/ppt/slides/_rels/slide328.xml.rels" ContentType="application/vnd.openxmlformats-package.relationships+xml"/>
  <Override PartName="/ppt/slides/_rels/slide200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167.xml.rels" ContentType="application/vnd.openxmlformats-package.relationships+xml"/>
  <Override PartName="/ppt/slides/_rels/slide78.xml.rels" ContentType="application/vnd.openxmlformats-package.relationships+xml"/>
  <Override PartName="/ppt/slides/_rels/slide224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236.xml.rels" ContentType="application/vnd.openxmlformats-package.relationships+xml"/>
  <Override PartName="/ppt/slides/_rels/slide25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67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3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279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64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0.xml" ContentType="application/vnd.openxmlformats-officedocument.presentationml.slide+xml"/>
  <Override PartName="/ppt/slides/slide281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340.xml" ContentType="application/vnd.openxmlformats-officedocument.presentationml.slide+xml"/>
  <Override PartName="/ppt/slides/slide341.xml" ContentType="application/vnd.openxmlformats-officedocument.presentationml.slide+xml"/>
  <Override PartName="/ppt/slides/slide34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351.xml" ContentType="application/vnd.openxmlformats-officedocument.presentationml.slide+xml"/>
  <Override PartName="/ppt/slides/slide35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7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31.xml" ContentType="application/vnd.openxmlformats-officedocument.presentationml.slide+xml"/>
  <Override PartName="/ppt/slides/slide261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260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60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287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0.xml" ContentType="application/vnd.openxmlformats-officedocument.presentationml.slide+xml"/>
  <Override PartName="/ppt/slides/slide293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  <p:sldId id="602" r:id="rId349"/>
    <p:sldId id="603" r:id="rId350"/>
    <p:sldId id="604" r:id="rId351"/>
    <p:sldId id="605" r:id="rId352"/>
    <p:sldId id="606" r:id="rId353"/>
    <p:sldId id="607" r:id="rId354"/>
    <p:sldId id="608" r:id="rId355"/>
    <p:sldId id="609" r:id="rId356"/>
    <p:sldId id="610" r:id="rId357"/>
    <p:sldId id="611" r:id="rId358"/>
    <p:sldId id="612" r:id="rId359"/>
    <p:sldId id="613" r:id="rId360"/>
    <p:sldId id="614" r:id="rId361"/>
    <p:sldId id="615" r:id="rId362"/>
    <p:sldId id="616" r:id="rId363"/>
    <p:sldId id="617" r:id="rId364"/>
    <p:sldId id="618" r:id="rId365"/>
    <p:sldId id="619" r:id="rId366"/>
    <p:sldId id="620" r:id="rId367"/>
    <p:sldId id="621" r:id="rId368"/>
    <p:sldId id="622" r:id="rId369"/>
    <p:sldId id="623" r:id="rId370"/>
    <p:sldId id="624" r:id="rId371"/>
    <p:sldId id="625" r:id="rId372"/>
    <p:sldId id="626" r:id="rId3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slide" Target="slides/slide347.xml"/><Relationship Id="rId350" Type="http://schemas.openxmlformats.org/officeDocument/2006/relationships/slide" Target="slides/slide348.xml"/><Relationship Id="rId351" Type="http://schemas.openxmlformats.org/officeDocument/2006/relationships/slide" Target="slides/slide349.xml"/><Relationship Id="rId352" Type="http://schemas.openxmlformats.org/officeDocument/2006/relationships/slide" Target="slides/slide350.xml"/><Relationship Id="rId353" Type="http://schemas.openxmlformats.org/officeDocument/2006/relationships/slide" Target="slides/slide351.xml"/><Relationship Id="rId354" Type="http://schemas.openxmlformats.org/officeDocument/2006/relationships/slide" Target="slides/slide352.xml"/><Relationship Id="rId355" Type="http://schemas.openxmlformats.org/officeDocument/2006/relationships/slide" Target="slides/slide353.xml"/><Relationship Id="rId356" Type="http://schemas.openxmlformats.org/officeDocument/2006/relationships/slide" Target="slides/slide354.xml"/><Relationship Id="rId357" Type="http://schemas.openxmlformats.org/officeDocument/2006/relationships/slide" Target="slides/slide355.xml"/><Relationship Id="rId358" Type="http://schemas.openxmlformats.org/officeDocument/2006/relationships/slide" Target="slides/slide356.xml"/><Relationship Id="rId359" Type="http://schemas.openxmlformats.org/officeDocument/2006/relationships/slide" Target="slides/slide357.xml"/><Relationship Id="rId360" Type="http://schemas.openxmlformats.org/officeDocument/2006/relationships/slide" Target="slides/slide358.xml"/><Relationship Id="rId361" Type="http://schemas.openxmlformats.org/officeDocument/2006/relationships/slide" Target="slides/slide359.xml"/><Relationship Id="rId362" Type="http://schemas.openxmlformats.org/officeDocument/2006/relationships/slide" Target="slides/slide360.xml"/><Relationship Id="rId363" Type="http://schemas.openxmlformats.org/officeDocument/2006/relationships/slide" Target="slides/slide361.xml"/><Relationship Id="rId364" Type="http://schemas.openxmlformats.org/officeDocument/2006/relationships/slide" Target="slides/slide362.xml"/><Relationship Id="rId365" Type="http://schemas.openxmlformats.org/officeDocument/2006/relationships/slide" Target="slides/slide363.xml"/><Relationship Id="rId366" Type="http://schemas.openxmlformats.org/officeDocument/2006/relationships/slide" Target="slides/slide364.xml"/><Relationship Id="rId367" Type="http://schemas.openxmlformats.org/officeDocument/2006/relationships/slide" Target="slides/slide365.xml"/><Relationship Id="rId368" Type="http://schemas.openxmlformats.org/officeDocument/2006/relationships/slide" Target="slides/slide366.xml"/><Relationship Id="rId369" Type="http://schemas.openxmlformats.org/officeDocument/2006/relationships/slide" Target="slides/slide367.xml"/><Relationship Id="rId370" Type="http://schemas.openxmlformats.org/officeDocument/2006/relationships/slide" Target="slides/slide368.xml"/><Relationship Id="rId371" Type="http://schemas.openxmlformats.org/officeDocument/2006/relationships/slide" Target="slides/slide369.xml"/><Relationship Id="rId372" Type="http://schemas.openxmlformats.org/officeDocument/2006/relationships/slide" Target="slides/slide370.xml"/><Relationship Id="rId373" Type="http://schemas.openxmlformats.org/officeDocument/2006/relationships/slide" Target="slides/slide371.xml"/><Relationship Id="rId3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876-28FF-4AE3-BE62-1BAA371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E9C-0409-4037-8EC5-19AE926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60D-68D7-46A8-BD79-4408D242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5D-0D4E-46CD-9D7B-DE0E7A1A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007-7446-4365-B3DE-1AECE4C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E84-0B84-461A-848F-5694F9CA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4AA-7FBB-449A-9B4C-14B31A1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A91-0869-4312-A10D-AB02ABD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DBE-5082-4368-A111-B783CA07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47E-6FF8-41C6-975E-198F8C6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619-022D-489D-92AD-9E910B3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2BB-AAA5-43B1-840E-E6E9851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BAB-B829-465E-829C-09AD03CE9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ременные славянские языки и на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харий Рито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Церковная история», 555 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ает 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r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живущем по соседству с амазонками, то есть на Дону, в западной половине Предкавказья. Это земля синдов, дандариев, меотов (различных индоарийских народ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за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кр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з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 14 в. &lt; тюрк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z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свободный, независимый человек, искатель приключений, бродяга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патьевская лето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ерв. половина 14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П. Котляревский (1769–1838), Т.Г. Шевченко (1814–1861), позже – Л. Украинка, И. Фра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ъ, 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полнительные знаки и отлич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ы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їда, їж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, [’е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е] (после твердого)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сна, в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апостроф (’) в качестве разделительного зна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ов’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ака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ы &gt; [ы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 письм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си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ий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в. Анонимный баварский географ сообщ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z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едству с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z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Хазар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gt; [и], 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закрытом слоге) &gt; [и]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, 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ативны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имол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[этымоло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 &gt;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к, дов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ерд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ор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яг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н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е зубные в конце слова не оглуша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, 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ные согласные отвердели в конце слова и р на конце слог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, ц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лекс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количество польских заимств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Юж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10 в., арабские истор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(ар-Русий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навье, Балка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точная подгруппа (болгарский и македо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адная подгруппа (сербохорватский, слове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рославянский язы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лгаро-македонская (восточная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групп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канский языковой сою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склонения, развитие аналит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ред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инфини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остпозитивного артик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едина 10 в., Константин Багрянородны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о-западное побереж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го мор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Χρυσος Λεγομενος «золотом называемый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Χρυσος «золот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ая система глагольных вр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дарные формы личных местоим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фонд лекс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Болгарии и Македо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вянский Союз семи пл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 Аспару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681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христиан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ь Симе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е Болгарское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96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урецкое завое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йдуки «удальц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., карта Идр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ь-тюрк в Подонь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ы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24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бук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77–78 г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беда России в русско-турецких войнах и образование Болгарского короле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гары и болгар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гар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с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езиков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ълга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Болгар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оф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964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аина, Молдавия, Югославия, Турция, Греция, Румыния, Арген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нд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»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лый, белый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запад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4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ийского универс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 с др.-тюр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γa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смешанного происхождения, метис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ославянские (древнеболгарские): глаго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графское (конец Х 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аниево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иинско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евангел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ил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ь царя Самуила (99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ввина книг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расльская рукопис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оды истории болгар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болгарский (9-11 вв.). Создается старославянский язык, 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болгарский (12-16 вв.). Возникновение языкового союза, определение основных черт болгарс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ременный (16 в. и дале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Берон, И. Бого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Каравелов, Х. Боте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Ваз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нцелярия константинопольского патриарх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ь - Ρωσ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ер голям) – гласный среднего ряда, среднего подъем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гъ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г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 малък) – используется для обозначения мягкости перед 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оф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шт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щра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траф]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щ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башт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ни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/’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месте </a:t>
            </a:r>
            <a:r>
              <a:rPr b="0" i="1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 – брег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ляко – млече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ял – б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теряли мягкость в конце слова и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н, пет, сол, кон, просба, бо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 согласные встречаются только перед гласными заднего ря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, мля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кедонцы и македо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едон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́донски jа́́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зи́кове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 прозвала нас Россией, россиянами, российскими по правописанию латин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уга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Македон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до́ниj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Скопье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ко́пj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190600" y="20764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6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гария, Гре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7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а единая граф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лиженная с серб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школьн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, ее столица. Другие страны, в которых проживает описывае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ие университета в Скоп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страны заимствовано у греков, от него  образовано название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идской книжной школы (XI в.), печатные книги Иоакима Крчовского и Кирилла Пейчиновича  (конец XVIII – начало XIX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сте Мисирков (рубе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на сербском варианте кирилл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й, щ, ъ, ь, ё, ы, э, ю, 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ок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к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з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он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ерь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сторожнос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́б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ждение этно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особенности фонетики, морфологии и синтакс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’], 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уѓ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юд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ѓ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ж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ќ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еќ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еч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ќ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ати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ное удар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-, двусложны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вый с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ногосложных словах на третий с ко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позитивные артик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ый (-от, -та, -т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лизких предметов (-ов, -ва, -в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алеких предметов (-он, -на, -н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бы, хорваты и серскохорватский язы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гославия / Jугославиj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бия / Србиj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е и 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град / Беогр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276720" y="1862280"/>
            <a:ext cx="259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973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 7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ый кра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с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6041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сни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сния и Герцегов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Босна и Херцегов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раево / Сараjе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037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– рус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8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сульма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огор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ногор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Монтенегр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Црна Го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р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700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4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рв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ия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vat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 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еб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e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8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ША (200 тыс. сербов и хорватов)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нгрия, Австрия, Ита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олевство Хорва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о Серб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яжество Дукля (с 11 в. Зета) – Черног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славово Евангелие (12 в.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а боснийского бана Ку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189 г.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ские листки (12 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оссийская Федер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на Косовом п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итве с тур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 Стефанович Караджич (1787–186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4г., 1818 г. – серб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ов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евит Гай (1809–187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трослав Яг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78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зависимость Серб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8 г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бразование Королевства сербов, хорватов и словенц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9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госла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б, срби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Моск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союзник» – праслав. древнее название различных на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шинск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ходит к и.-е. корню 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 значением «охранят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е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va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. греч. κοροατ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ф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ранит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л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Што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а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йковский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й язык создан на основе штоковского диал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зношение </a:t>
            </a:r>
            <a:r>
              <a:rPr b="0" lang="en-US" sz="40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фон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бская кириллица (вуков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ют русск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Канада, страны Европы, Австралия, в меньшей мере страны Юж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русской гражданской азб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, й, щ, ъ, ы, ь, э, ю, 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њи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њ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ба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Ћ 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Ђ ђ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ђ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рађа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жем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рма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ская латиница (гаевица, гай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ского алфав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около 120 млн. 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а 25 млн. зарубеж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n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jiv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j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Đ 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ло 80 млн. чел. других национальностей владеют русским как вторым языком или даже как р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гова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в конце слова и перед согласным &gt;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о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 &gt;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*влк &gt; вук, *жлт &gt; жут, *длг &gt; д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е звонкие согласные не оглушаются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д, мед, нож, р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гласным переднего ряда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,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рн, црв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венцы и слове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š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млн. чел. в мире изучают русский язык в качестве иностранн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zikoslove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ij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jublja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3 млн. че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встрия и Италия (200 тыс.), США (200 тыс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мский католиц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но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Государство Сам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ий язык – один из шести официальных языков ЮНЕСКО, ООН и других международных организ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2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словенское независимое государство Карант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л Вели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Коц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посветское п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йзингенские листки (X–XI вв.), Целовецкая рукопись (1362–1390), Стишская рукопись (1428–1440), Венецианско-словенская (Чедадская) рукопись (149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ож Трубар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508–158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варь и катехизи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графия в Любля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й Далмат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перевод Библ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 Бохори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аммат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раин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ору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имо России русский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государстве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Белар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 Казахст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и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8 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ней Копита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ая словен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е Прешер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хорватской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(в начале слова или в интервокальном положени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сть предшествующего согласного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jez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славие и ате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фография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ко-морфологический принци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c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rva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поставление гласных по долготе и крат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ьная редукция гласных в безударн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и в конце слова переходят в [ў]. Это не отражается на график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a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войственное чис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 sosed bog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a soseda bog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i sosedi bog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остигательное наклонение (супин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em sp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ду спать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jdi kravo v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йди, чтобы вернуть коро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адные славя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хословацкая группа (чешский и словацкий языки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тово-Суздальское княж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хитская групп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льски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хне- и нижнелужицкие, полабский язык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хи и чеш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češt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azykově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 –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c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k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publ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372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акия, Россия, СШ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мл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орусская народ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овское к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еньшей мер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тестан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езия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ng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. Варнав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n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3-658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о Са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 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мир (830–846 гг.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Растислав (846-87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6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ссия Константина и Мефо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ский миссал (Х в.), Киевские глаголические листки (XI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Федоров. «Апосто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55 г. чешский король Кар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ацлав) был коронован как император Священной Римской Импе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 первый в империи Пражский универс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н Гу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cta simplicita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орма чешского яз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орьба с арха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рьба с герман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форма чешской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н Гу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ктат «О чешской орфограф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шские бра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09-1819 г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Йозеф Добровск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шская грам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озеф Юнгманн (нач. 19 в.) – пятитомный чешско-немецкий слова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31 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е чешское издательство «Матица Чешская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орма русской граф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Н. Трубач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ить’, следовательно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оец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используетс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ое зву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и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в] в заимствованиях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so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lfr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 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х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уквы, обозначающие шипя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р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ш’] (после глухих согласных)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означение мягких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Ň 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о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Ť ť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т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Ť)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k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туч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Ď 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Ď)ď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ьяволен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критики или апостроф не ставятся (а пиш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еред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скольку в этой позици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гда мягк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ть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ch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тих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ел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грамматика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ят пере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они тоже являются мягкими, тольк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авится на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мой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л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сто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лки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t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ять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озраст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́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č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бозначения долготы глас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e, i, o, u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, é, í, ó, ú, ý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˚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ouž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у долгий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орфографии – морфолог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ы] &gt; [и], на письм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ым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y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абоч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онное [о] &gt; [у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’] &gt; [рж’], [рш’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ились слоговые плавные: vlk 'волк', smrt 'смерть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9–1794 г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Академии Росси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оглушения и озвончения согла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рение на первом слог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ая реформа графики и 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гово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й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мирово евангелие (1056–10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пись на Тмутараканском камне (10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городские Минеи (1095–10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ота Мстислава (около 11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ская грамота (12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Полоцка с Ригой (13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лорусы и белорус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руская 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знав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еспубли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ларус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5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, Польша, Литва, Укра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акже Казахстан, Эстония, США, Аргентина, Канада, Австра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евск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12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8 млн. в Белару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1 млн. в Ро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2 млн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распространен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и народа и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ц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ленс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имиро-Волынск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иг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е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го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т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м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обело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ение первых шк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анциск Ско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: «Псалтыр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Носо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белорусского на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Бело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ветлому цвету волос, белым одежд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бодная от татаро-монголов, ср. 17 в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 обложенная податями (А.А. Потеб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многих снегов (В.Н. Татищ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ападная по отношению к орде (О.Н. Трубаче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названия реки Р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слова 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вязано со словом Рус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др.-исл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en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гребцы, мореходы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говорная грамота смоленского князя Мстислава Давидови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игой и Готским берегом (1229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упала (1882–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олас (1882–19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 белорусского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. Ф. Кар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кирилли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го гражданского пис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, щ, ъ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место 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оў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не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&gt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безударной позиции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а,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 &gt; ’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я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з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’ &gt; дз’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зе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’ &gt; ц’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тих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рикативно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ра, го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. до н.э., Диофант: Ρευξιναλοί – племенное название в Тавр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ра, гарач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ы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рдение губных в конце слова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, л,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переходят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саў, даў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краинцы и 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ский язык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ь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ознавец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а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Киев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иï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идиум АН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в. н.э., Птолем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0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 Кимерийского Боспора (Керченского пролива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Κορουσία, Γέρουσα, Αστερου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613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 (3,7 млн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, Белоруссия, Словакия, Казахстан, Молдова, Киргизия, США, Аргентина, Брази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млн.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них 37 млн. чел. на Укра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ицкая земля, Волы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е Польского короле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игово-Северская зем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щ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л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лын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ое княжество Лит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рпатская Русь - 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ая Букови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да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ро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о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в., Иорд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g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род на побережье Черного мо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Фед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уквар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ение Украины 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дан Хмельни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горий Сков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философ, писатель, учены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начальное названи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н, русич, руснак, русь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Русь – Малая Русь (1347 г.) Μεγαλη Ρωσσια – Μικρα Ρωσσι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город Северский и Великий Новгоро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иевской области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 Вели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ладимир Волы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ликий Владим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ре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еликая Гре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оравия – Великая Мора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ретань – Великобрит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тречается в Ипатьевской летописи  под 118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общее признание терми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носится лишь к 1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ходящаяся у края, на кра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1:39:10Z</dcterms:created>
  <dc:creator>Теуш О. А.</dc:creator>
  <dc:description/>
  <dc:language>en-US</dc:language>
  <cp:lastModifiedBy>user</cp:lastModifiedBy>
  <dcterms:modified xsi:type="dcterms:W3CDTF">2008-02-22T10:04:52Z</dcterms:modified>
  <cp:revision>7</cp:revision>
  <dc:subject/>
  <dc:title>УМКД "Введение в славянскую филологию"</dc:title>
</cp:coreProperties>
</file>