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1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45.xml.rels" ContentType="application/vnd.openxmlformats-package.relationships+xml"/>
  <Override PartName="/ppt/slides/_rels/slide336.xml.rels" ContentType="application/vnd.openxmlformats-package.relationships+xml"/>
  <Override PartName="/ppt/slides/_rels/slide341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102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291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9.xml.rels" ContentType="application/vnd.openxmlformats-package.relationships+xml"/>
  <Override PartName="/ppt/slides/_rels/slide356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8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97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71.xml.rels" ContentType="application/vnd.openxmlformats-package.relationships+xml"/>
  <Override PartName="/ppt/slides/_rels/slide328.xml.rels" ContentType="application/vnd.openxmlformats-package.relationships+xml"/>
  <Override PartName="/ppt/slides/_rels/slide200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167.xml.rels" ContentType="application/vnd.openxmlformats-package.relationships+xml"/>
  <Override PartName="/ppt/slides/_rels/slide78.xml.rels" ContentType="application/vnd.openxmlformats-package.relationships+xml"/>
  <Override PartName="/ppt/slides/_rels/slide224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236.xml.rels" ContentType="application/vnd.openxmlformats-package.relationships+xml"/>
  <Override PartName="/ppt/slides/_rels/slide254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60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35.xml.rels" ContentType="application/vnd.openxmlformats-package.relationships+xml"/>
  <Override PartName="/ppt/slides/_rels/slide63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344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39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67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57.xml.rels" ContentType="application/vnd.openxmlformats-package.relationships+xml"/>
  <Override PartName="/ppt/slides/_rels/slide348.xml.rels" ContentType="application/vnd.openxmlformats-package.relationships+xml"/>
  <Override PartName="/ppt/slides/_rels/slide353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315.xml.rels" ContentType="application/vnd.openxmlformats-package.relationships+xml"/>
  <Override PartName="/ppt/slides/_rels/slide294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82.xml.rels" ContentType="application/vnd.openxmlformats-package.relationships+xml"/>
  <Override PartName="/ppt/slides/_rels/slide277.xml.rels" ContentType="application/vnd.openxmlformats-package.relationships+xml"/>
  <Override PartName="/ppt/slides/_rels/slide303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279.xml.rels" ContentType="application/vnd.openxmlformats-package.relationships+xml"/>
  <Override PartName="/ppt/slides/_rels/slide284.xml.rels" ContentType="application/vnd.openxmlformats-package.relationships+xml"/>
  <Override PartName="/ppt/slides/_rels/slide305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364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271.xml" ContentType="application/vnd.openxmlformats-officedocument.presentationml.slide+xml"/>
  <Override PartName="/ppt/slides/slide272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347.xml" ContentType="application/vnd.openxmlformats-officedocument.presentationml.slide+xml"/>
  <Override PartName="/ppt/slides/slide181.xml" ContentType="application/vnd.openxmlformats-officedocument.presentationml.slide+xml"/>
  <Override PartName="/ppt/slides/slide113.xml" ContentType="application/vnd.openxmlformats-officedocument.presentationml.slide+xml"/>
  <Override PartName="/ppt/slides/slide275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280.xml" ContentType="application/vnd.openxmlformats-officedocument.presentationml.slide+xml"/>
  <Override PartName="/ppt/slides/slide281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340.xml" ContentType="application/vnd.openxmlformats-officedocument.presentationml.slide+xml"/>
  <Override PartName="/ppt/slides/slide341.xml" ContentType="application/vnd.openxmlformats-officedocument.presentationml.slide+xml"/>
  <Override PartName="/ppt/slides/slide34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351.xml" ContentType="application/vnd.openxmlformats-officedocument.presentationml.slide+xml"/>
  <Override PartName="/ppt/slides/slide35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7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33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31.xml" ContentType="application/vnd.openxmlformats-officedocument.presentationml.slide+xml"/>
  <Override PartName="/ppt/slides/slide261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260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60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9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70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287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0.xml" ContentType="application/vnd.openxmlformats-officedocument.presentationml.slide+xml"/>
  <Override PartName="/ppt/slides/slide293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  <p:sldId id="602" r:id="rId349"/>
    <p:sldId id="603" r:id="rId350"/>
    <p:sldId id="604" r:id="rId351"/>
    <p:sldId id="605" r:id="rId352"/>
    <p:sldId id="606" r:id="rId353"/>
    <p:sldId id="607" r:id="rId354"/>
    <p:sldId id="608" r:id="rId355"/>
    <p:sldId id="609" r:id="rId356"/>
    <p:sldId id="610" r:id="rId357"/>
    <p:sldId id="611" r:id="rId358"/>
    <p:sldId id="612" r:id="rId359"/>
    <p:sldId id="613" r:id="rId360"/>
    <p:sldId id="614" r:id="rId361"/>
    <p:sldId id="615" r:id="rId362"/>
    <p:sldId id="616" r:id="rId363"/>
    <p:sldId id="617" r:id="rId364"/>
    <p:sldId id="618" r:id="rId365"/>
    <p:sldId id="619" r:id="rId366"/>
    <p:sldId id="620" r:id="rId367"/>
    <p:sldId id="621" r:id="rId368"/>
    <p:sldId id="622" r:id="rId369"/>
    <p:sldId id="623" r:id="rId370"/>
    <p:sldId id="624" r:id="rId371"/>
    <p:sldId id="625" r:id="rId372"/>
    <p:sldId id="626" r:id="rId3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slide" Target="slides/slide347.xml"/><Relationship Id="rId350" Type="http://schemas.openxmlformats.org/officeDocument/2006/relationships/slide" Target="slides/slide348.xml"/><Relationship Id="rId351" Type="http://schemas.openxmlformats.org/officeDocument/2006/relationships/slide" Target="slides/slide349.xml"/><Relationship Id="rId352" Type="http://schemas.openxmlformats.org/officeDocument/2006/relationships/slide" Target="slides/slide350.xml"/><Relationship Id="rId353" Type="http://schemas.openxmlformats.org/officeDocument/2006/relationships/slide" Target="slides/slide351.xml"/><Relationship Id="rId354" Type="http://schemas.openxmlformats.org/officeDocument/2006/relationships/slide" Target="slides/slide352.xml"/><Relationship Id="rId355" Type="http://schemas.openxmlformats.org/officeDocument/2006/relationships/slide" Target="slides/slide353.xml"/><Relationship Id="rId356" Type="http://schemas.openxmlformats.org/officeDocument/2006/relationships/slide" Target="slides/slide354.xml"/><Relationship Id="rId357" Type="http://schemas.openxmlformats.org/officeDocument/2006/relationships/slide" Target="slides/slide355.xml"/><Relationship Id="rId358" Type="http://schemas.openxmlformats.org/officeDocument/2006/relationships/slide" Target="slides/slide356.xml"/><Relationship Id="rId359" Type="http://schemas.openxmlformats.org/officeDocument/2006/relationships/slide" Target="slides/slide357.xml"/><Relationship Id="rId360" Type="http://schemas.openxmlformats.org/officeDocument/2006/relationships/slide" Target="slides/slide358.xml"/><Relationship Id="rId361" Type="http://schemas.openxmlformats.org/officeDocument/2006/relationships/slide" Target="slides/slide359.xml"/><Relationship Id="rId362" Type="http://schemas.openxmlformats.org/officeDocument/2006/relationships/slide" Target="slides/slide360.xml"/><Relationship Id="rId363" Type="http://schemas.openxmlformats.org/officeDocument/2006/relationships/slide" Target="slides/slide361.xml"/><Relationship Id="rId364" Type="http://schemas.openxmlformats.org/officeDocument/2006/relationships/slide" Target="slides/slide362.xml"/><Relationship Id="rId365" Type="http://schemas.openxmlformats.org/officeDocument/2006/relationships/slide" Target="slides/slide363.xml"/><Relationship Id="rId366" Type="http://schemas.openxmlformats.org/officeDocument/2006/relationships/slide" Target="slides/slide364.xml"/><Relationship Id="rId367" Type="http://schemas.openxmlformats.org/officeDocument/2006/relationships/slide" Target="slides/slide365.xml"/><Relationship Id="rId368" Type="http://schemas.openxmlformats.org/officeDocument/2006/relationships/slide" Target="slides/slide366.xml"/><Relationship Id="rId369" Type="http://schemas.openxmlformats.org/officeDocument/2006/relationships/slide" Target="slides/slide367.xml"/><Relationship Id="rId370" Type="http://schemas.openxmlformats.org/officeDocument/2006/relationships/slide" Target="slides/slide368.xml"/><Relationship Id="rId371" Type="http://schemas.openxmlformats.org/officeDocument/2006/relationships/slide" Target="slides/slide369.xml"/><Relationship Id="rId372" Type="http://schemas.openxmlformats.org/officeDocument/2006/relationships/slide" Target="slides/slide370.xml"/><Relationship Id="rId373" Type="http://schemas.openxmlformats.org/officeDocument/2006/relationships/slide" Target="slides/slide371.xml"/><Relationship Id="rId3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4AB-C21D-4A43-82E6-ED622146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84C-CF41-482E-9C8B-4541D76D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C8A-91D8-464F-A182-461F7739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42F-20D4-41BF-9321-EBA95A2A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512-D182-48AF-AAB9-8EDF074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CF8-077B-4216-BE84-3B350F78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493-FA89-4393-BDAF-89F83A97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582-2CCB-40DA-A8F2-F77ACD7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417-12D5-46DE-A035-0A2F6CD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4FE-EE7F-4149-96A4-D078B69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8AC-67B0-4506-B6B8-A674226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464-52B1-4799-B5B5-D2EA5D2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668D-C66E-46C6-8526-23FA6A725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ременные славянские языки и на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харий Ритор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Церковная история», 555 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ает о наро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r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живущем по соседству с амазонками, то есть на Дону, в западной половине Предкавказья. Это земля синдов, дандариев, меотов (различных индоарийских народ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за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кр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з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с 14 в. &lt; тюрк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z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‘свободный, независимый человек, искатель приключений, бродяга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патьевская лето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ерв. половина 14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П. Котляревский (1769–1838), Т.Г. Шевченко (1814–1861), позже – Л. Украинка, И. Фра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риллица – на основе русской гражда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ъ, ы, э, 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полнительные знаки и отлич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и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ы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и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їда, їж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, [’е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е] (после твердого)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сна, в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апостроф (’) в качестве разделительного зна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ов’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ака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 ы &gt; [ы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 письм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сын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син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сыний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в. Анонимный баварский географ сообщ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народ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z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седству с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zi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Хазар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gt; [и], на пись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, 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закрытом слоге) &gt; [и]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ись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, 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икативны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тимол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[этымоло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 &gt;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вк, дов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ерд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ор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яг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н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е зубные в конце слова не оглуша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, 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ные согласные отвердели в конце слова и р на конце слог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, ц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лекс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е количество польских заимствов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Юж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10 в., арабские истори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я (ар-Русий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унавье, Балка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точная подгруппа (болгарский и македонский язы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адная подгруппа (сербохорватский, словенский язы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рославянский язы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лгаро-македонская (восточная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групп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канский языковой сою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ая или частичная утрата склонения, развитие аналит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ред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ая или частичная утрата инфинит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постпозитивного артик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редина 10 в., Константин Багрянородны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о-западное побереж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го мор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Χρυσος Λεγομενος «золотом называемый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Χρυσος «золото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ая система глагольных вре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ударные формы личных местоим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овые инно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фонд лекс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Болгарии и Македо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вянский Союз семи пле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н Аспарух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681 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6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ие христиан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ь Симе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е Болгарское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96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урецкое завое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йдуки «удальц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., карта Идр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ь-тюрк в Подонье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ры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24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буква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77–78 гг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беда России в русско-турецких войнах и образование Болгарского короле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лгары и болгар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гарский язык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ългарс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з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езикове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ълга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Болгария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Българ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оф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964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аина, Молдавия, Югославия, Турция, Греция, Румыния, Арген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.Н.Труб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нд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k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»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s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k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ss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лый, белый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запад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 4 млн.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л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фийского универс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ан с др.-тюр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γa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смешанного происхождения, метис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ославянские (древнеболгарские): глаголическ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графское (конец Х 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аниево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иинско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евангел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иллическ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ь царя Самуила (99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ввина книг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прасльская рукопис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иоды истории болгар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болгарский (9-11 вв.). Создается старославянский язык, 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еболгарский (12-16 вв.). Возникновение языкового союза, определение основных черт болгарс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ременный (16 в. и дале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Берон, И. Бого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Каравелов, Х. Боте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Вазов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риллица – на основе русской гражданской азб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, э, ё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нцелярия константинопольского патриарх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ь - Ρωσσ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ер голям) – гласный среднего ряда, среднего подъем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гъ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г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 малък) – используется для обозначения мягкости перед о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офь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кть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ругих зна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щ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шт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щра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траф]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щ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башта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ни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/’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месте </a:t>
            </a:r>
            <a:r>
              <a:rPr b="0" i="1" lang="en-US" sz="32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ряг – брег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ляко – млече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ял – б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ые не смягчаются перед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теряли мягкость в конце слова и перед согласны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н, пет, сол, кон, просба, бор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е согласные встречаются только перед гласными заднего ря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ряг, мля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кедонцы и македон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едонский язык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аке́донски jа́́з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зи́кове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.И.Д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ша прозвала нас Россией, россиянами, российскими по правописанию латин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уга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Македония /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Македо́ниj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Скопье /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ко́пj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190600" y="20764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6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гария, Гре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7 млн. че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л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5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а единая граф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лиженная с серб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школьн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характеристики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, ее столица. Другие страны, в которых проживает описывае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9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ие университета в Скоп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страны заимствовано у греков, от него  образовано название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идской книжной школы (XI в.), печатные книги Иоакима Крчовского и Кирилла Пейчиновича  (конец XVIII – начало XIX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сте Мисирков (рубе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а на сербском варианте кирилл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й, щ, ъ, ь, ё, ы, э, ю, 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ок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ок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дз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вон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верь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сторожнос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љ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л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́б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характеристики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ждение этно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особенности фонетики, морфологии и синтакси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њ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д’], [т’]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уѓ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юди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ѓ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еж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ќ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т’]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еќ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ечи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аќ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лати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логов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р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енное удар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дно-, двусложных слов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ервый сл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ногосложных словах на третий с ко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позитивные артик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ый (-от, -та, -т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лизких предметов (-ов, -ва, -во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алеких предметов (-он, -на, -н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бы, хорваты и серскохорватский язы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гославия / Jугославиj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р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бия / Србиj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сточ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ие и 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град / Беогр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276720" y="1862280"/>
            <a:ext cx="2590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9733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, 7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ый край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с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6041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сни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сния и Герцегов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Босна и Херцегов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раево / Сараjе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6037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– рус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8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сульма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огор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ногор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Монтенегр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/ Црна Го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ри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9700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,4 млн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рв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ватия /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rvat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 – рус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еб /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e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603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8 млн. 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ША (200 тыс. сербов и хорватов)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нгрия, Австрия, Ита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олевство Хорва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яжество Серб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яжество Дукля (с 11 в. Зета) – Черног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славово Евангелие (12 в.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а боснийского бана Ку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189 г. 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ские листки (12 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страна проживания – Российская Федер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9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на Косовом п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итве с тур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к Стефанович Караджич (1787–186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4г., 1818 г. – сербск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кови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евит Гай (1809–187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трослав Яги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78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зависимость Серб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18 г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бразование Королевства сербов, хорватов и словенц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9 г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госла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б, срби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ица – Моск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союзник» – праслав. древнее название различных на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шинск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ходит к и.-е. корню 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 значением «охранят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рва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е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va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. греч. κοροατο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ф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v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ранит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л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Штоковский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аковский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йковский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ый язык создан на основе штоковского диалек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зношение </a:t>
            </a:r>
            <a:r>
              <a:rPr b="0" lang="en-US" sz="40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кавское (</a:t>
            </a:r>
            <a:r>
              <a:rPr b="0" lang="en-US" sz="2800" spc="-1" strike="noStrike">
                <a:solidFill>
                  <a:srgbClr val="000000"/>
                </a:solidFill>
                <a:latin typeface="Izhitz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j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 – фон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бская кириллица (вуковиц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ют русск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А, Канада, страны Европы, Австралия, в меньшей мере страны Юж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русской гражданской азб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ё, й, щ, ъ, ы, ь, э, ю, 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н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њ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њи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њ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л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ба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љу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Ћ 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Ђ ђ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ђ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рађа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џ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жем)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џе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рма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ватская латиница (гаевица, гайица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латинского алфав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около 120 млн. чел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а 25 млн. зарубеж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na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л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ba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on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jiv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nja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o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Đ 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’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ж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ло 80 млн. чел. других национальностей владеют русским как вторым языком или даже как р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слогов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рв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гова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в конце слова и перед согласным &gt;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о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г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 &gt; 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*влк &gt; вук, *жлт &gt; жут, *длг &gt; д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ые звонкие согласные не оглушаются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д, мед, нож, р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ые не смягчаются перед гласным переднего ряда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,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рн, црв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ся долгие и краткие гла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е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венцы и словен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š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млн. чел. в мире изучают русский язык в качестве иностранн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zikoslove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ij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jublja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03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 3 млн. че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встрия и Италия (200 тыс.), США (200 тыс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мский католиц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но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в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Государство Сам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ий язык – один из шести официальных языков ЮНЕСКО, ООН и других международных организ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23 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словенское независимое государство Карант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л Вели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Коц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посветское п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ейзингенские листки (X–XI вв.), Целовецкая рукопись (1362–1390), Стишская рукопись (1428–1440), Венецианско-словенская (Чедадская) рукопись (149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ож Трубар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508–158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кварь и катехизи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ография в Любля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8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рий Далмат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перевод Библ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8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 Бохори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граммат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раин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ору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имо России русский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яется государствен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Белару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 Казахст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лли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8 г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рней Копита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ая словенская грамма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е Прешер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хорватской ла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(в начале слова или в интервокальном положени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ость предшествующего согласного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on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juba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jez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ro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славие и ате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фография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ко-морфологический принци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гов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c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rva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поставление гласных по долготе и крат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ьная редукция гласных в безударной пози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 и в конце слова переходят в [ў]. Это не отражается на график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k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av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е уд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двойственное чис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 sosed bog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a soseda bog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ši sosedi bog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достигательное наклонение (супин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em sp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ду спать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jdi kravo v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йди, чтобы вернуть коров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адные славя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хословацкая группа (чешский и словацкий языки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тово-Суздальское княж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хитская групп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льский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хне- и нижнелужицкие, полабский язык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хи и чеш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češtin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гви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azykově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оним –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ch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–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sk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publi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ah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372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акия, Россия, СШ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мл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орусская народ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овское к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оисповедание –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еньшей мер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тестан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езия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ing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. Варнава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n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3-658 гг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о Са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 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мир (830–846 гг.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язь Растислав (846-87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63 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ссия Константина и Мефо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ский миссал (Х в.), Киевские глаголические листки (XI в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ан Федоров. «Апосто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55 г. чешский король Кар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ацлав) был коронован как император Священной Римской Импе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4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 первый в империи Пражский универс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н Гу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cta simplicita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орма чешского яз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Борьба с арха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рьба с герман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еформа чешской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н Гу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ктат «О чешской орфографи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 в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шские бра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09-1819 гг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Йозеф Добровск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шская грам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озеф Юнгманн (нач. 19 в.) – пятитомный чешско-немецкий слова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31 г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е чешское издательство «Матица Чешская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орма русской граф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Н. Трубач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at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бить’, следовательно, *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боец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ла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используетс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ое зву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γ]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г]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и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в] в заимствованиях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so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lfra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 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х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o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уквы, обозначающие шипящ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ч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ш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o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рж’]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рш’] (после глухих согласных)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означение мягких согл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Ň 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н’]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о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Ť ť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т’]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Ť)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k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туч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Ď 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д’]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Ď)ď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ьяволен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критики или апостроф не ставятся (а пиш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перед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скольку в этой позици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егда мягк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ить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ch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тихо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ел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В.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грамматика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ят пере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 они тоже являются мягкими, тольк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ˇ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á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авится над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мой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ло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ě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н’е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мн’есто]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[мн’елки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t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ять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озраст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́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č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бозначения долготы глас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e, i, o, u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, é, í, ó, ú, ý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˚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ouž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ů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у долгий]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ж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нцип орфографии – морфологи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аются долгие и краткие глас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ы] &gt; [и], на письм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ым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y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абоч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онное [о] &gt; [у], на пись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ж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р’] &gt; [рж’], [рш’], на пись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ились слоговые плавные: vlk 'волк', smrt 'смерть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9–1794 г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ь Академии Росси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оглушения и озвончения соглас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акцент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рение на первом слог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ая реформа графики и орф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гово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й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 орф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мирово евангелие (1056–10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пись на Тмутараканском камне (10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городские Минеи (1095–10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ота Мстислава (около 11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ленская грамота (12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 Полоцка с Ригой (13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лорусы и белорусский язы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руская м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азнав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народ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ар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 – республи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ларус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35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ица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, Польша, Литва, Укра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акже Казахстан, Эстония, США, Аргентина, Канада, Австра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евск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-12 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8 млн. в Беларус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1 млн. в Росс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2 млн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распространен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толициз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ий очер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и народа и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ц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ленс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димиро-Волынск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игов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яж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е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гов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ят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л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ми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обело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ление первых шк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1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анциск Ско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: «Псалтырь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 Носови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арь белорусского на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Бело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ветлому цвету волос, белым одежд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 Ру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бодная от татаро-монголов, ср. 17 в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 обложенная податями (А.А. Потеб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многих снегов (В.Н. Татище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лая Ру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ападная по отношению к орде (О.Н. Трубаче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названия реки Р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слова 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вязано со словом Рус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др.-исл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en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‘гребцы, мореходы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евнейшие памятники письмен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говорная грамота смоленского князя Мстислава Давидови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Ригой и Готским берегом (1229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тели литературного языка, реформато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. Купала (1882–19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. Колас (1882–195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 белорусского язы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. Ф. Кар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кирилли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го гражданского пис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 использу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, щ, ъ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место 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оў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не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ф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анье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&gt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безударной позиции)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га,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анье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 &gt; ’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я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зеканье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’ &gt; дз’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зе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д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канье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’ &gt; ц’)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тих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рикативное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ара, го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.Н.Труба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. до н.э., Диофант: Ρευξιναλοί – племенное название в Тавр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ра, гарач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о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ы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рдение губных в конце слова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особенности фон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, л, 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 гласного перед согласным переходят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саў, даў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краинцы и украин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язы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ский язык /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ь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вознавец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на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ц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страна прож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а /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ï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ица – Киев /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иï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идиум АН Укр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962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в. н.э., Птолемей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0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 Кимерийского Боспора (Керченского пролива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Κορουσία, Γέρουσα, Αστερουσ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4613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страны, в которых проживает нар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 (3,7 млн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ьша, Белоруссия, Словакия, Казахстан, Молдова, Киргизия, США, Аргентина, Брази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ен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млн.чел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них 37 млн. чел. на Укра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испове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авослав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ткий очерк истории народа и язы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ицкая земля, Волы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е Польского королев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игово-Северская зем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щ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л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лын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ое княжество Литов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рпатская Русь - Венг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ая Букови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да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роукраин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о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в., Иордан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ka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g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род на побережье Черного мо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 Фед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печатная кни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уквар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5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оединение Украины к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гдан Хмельниц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горий Сково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философ, писатель, учены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но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начальное название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син, русич, руснак, русь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Русь – Малая Русь (1347 г.) Μεγαλη Ρωσσια – Μικρα Ρωσσι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город Северский и Великий Новгоро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иевской области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тов Велик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ладимир Волын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ликий Владим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ре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еликая Гре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оравия – Великая Мора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ретань – Великобрит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кра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тречается в Ипатьевской летописи  под 118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общее признание терми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кра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носится лишь к 17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аходящаяся у края, на кра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1:39:10Z</dcterms:created>
  <dc:creator>Теуш О. А.</dc:creator>
  <dc:description/>
  <dc:language>en-US</dc:language>
  <cp:lastModifiedBy>user</cp:lastModifiedBy>
  <dcterms:modified xsi:type="dcterms:W3CDTF">2008-02-22T10:04:52Z</dcterms:modified>
  <cp:revision>7</cp:revision>
  <dc:subject/>
  <dc:title>УМКД "Введение в славянскую филологию"</dc:title>
</cp:coreProperties>
</file>