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59.jpeg" ContentType="image/jpeg"/>
  <Override PartName="/ppt/media/image6.png" ContentType="image/png"/>
  <Override PartName="/ppt/media/image83.png" ContentType="image/png"/>
  <Override PartName="/ppt/media/image58.wmf" ContentType="image/x-wmf"/>
  <Override PartName="/ppt/media/image34.jpeg" ContentType="image/jpeg"/>
  <Override PartName="/ppt/media/image54.wmf" ContentType="image/x-wmf"/>
  <Override PartName="/ppt/media/image53.wmf" ContentType="image/x-wmf"/>
  <Override PartName="/ppt/media/image50.png" ContentType="image/png"/>
  <Override PartName="/ppt/media/image52.wmf" ContentType="image/x-wmf"/>
  <Override PartName="/ppt/media/image49.png" ContentType="image/png"/>
  <Override PartName="/ppt/media/image51.wmf" ContentType="image/x-wmf"/>
  <Override PartName="/ppt/media/image29.png" ContentType="image/png"/>
  <Override PartName="/ppt/media/image48.png" ContentType="image/png"/>
  <Override PartName="/ppt/media/image45.jpeg" ContentType="image/jpeg"/>
  <Override PartName="/ppt/media/image46.png" ContentType="image/png"/>
  <Override PartName="/ppt/media/image44.jpeg" ContentType="image/jpeg"/>
  <Override PartName="/ppt/media/image43.png" ContentType="image/png"/>
  <Override PartName="/ppt/media/image55.jpeg" ContentType="image/jpeg"/>
  <Override PartName="/ppt/media/image42.wmf" ContentType="image/x-wmf"/>
  <Override PartName="/ppt/media/image82.jpeg" ContentType="image/jpeg"/>
  <Override PartName="/ppt/media/image85.png" ContentType="image/png"/>
  <Override PartName="/ppt/media/image40.png" ContentType="image/png"/>
  <Override PartName="/ppt/media/image38.wmf" ContentType="image/x-wmf"/>
  <Override PartName="/ppt/media/image36.jpeg" ContentType="image/jpeg"/>
  <Override PartName="/ppt/media/image32.png" ContentType="image/png"/>
  <Override PartName="/ppt/media/image31.png" ContentType="image/png"/>
  <Override PartName="/ppt/media/image30.png" ContentType="image/png"/>
  <Override PartName="/ppt/media/image13.wmf" ContentType="image/x-wmf"/>
  <Override PartName="/ppt/media/image39.jpeg" ContentType="image/jpeg"/>
  <Override PartName="/ppt/media/image5.png" ContentType="image/png"/>
  <Override PartName="/ppt/media/image17.png" ContentType="image/png"/>
  <Override PartName="/ppt/media/image71.png" ContentType="image/png"/>
  <Override PartName="/ppt/media/image2.wmf" ContentType="image/x-wmf"/>
  <Override PartName="/ppt/media/image22.png" ContentType="image/png"/>
  <Override PartName="/ppt/media/image62.wmf" ContentType="image/x-wmf"/>
  <Override PartName="/ppt/media/image23.png" ContentType="image/png"/>
  <Override PartName="/ppt/media/image63.png" ContentType="image/png"/>
  <Override PartName="/ppt/media/image64.wmf" ContentType="image/x-wmf"/>
  <Override PartName="/ppt/media/image11.jpeg" ContentType="image/jpeg"/>
  <Override PartName="/ppt/media/image24.png" ContentType="image/png"/>
  <Override PartName="/ppt/media/image65.wmf" ContentType="image/x-wmf"/>
  <Override PartName="/ppt/media/image19.jpeg" ContentType="image/jpeg"/>
  <Override PartName="/ppt/media/image66.wmf" ContentType="image/x-wmf"/>
  <Override PartName="/ppt/media/image70.png" ContentType="image/png"/>
  <Override PartName="/ppt/media/image28.png" ContentType="image/png"/>
  <Override PartName="/ppt/media/image87.png" ContentType="image/png"/>
  <Override PartName="/ppt/media/image21.jpeg" ContentType="image/jpeg"/>
  <Override PartName="/ppt/media/image80.jpeg" ContentType="image/jpeg"/>
  <Override PartName="/ppt/media/image75.png" ContentType="image/png"/>
  <Override PartName="/ppt/media/image86.png" ContentType="image/png"/>
  <Override PartName="/ppt/media/image10.wmf" ContentType="image/x-wmf"/>
  <Override PartName="/ppt/media/image61.png" ContentType="image/png"/>
  <Override PartName="/ppt/media/image81.wmf" ContentType="image/x-wmf"/>
  <Override PartName="/ppt/media/image9.wmf" ContentType="image/x-wmf"/>
  <Override PartName="/ppt/media/image41.png" ContentType="image/png"/>
  <Override PartName="/ppt/media/image60.jpeg" ContentType="image/jpeg"/>
  <Override PartName="/ppt/media/image67.wmf" ContentType="image/x-wmf"/>
  <Override PartName="/ppt/media/image92.png" ContentType="image/png"/>
  <Override PartName="/ppt/media/image27.png" ContentType="image/png"/>
  <Override PartName="/ppt/media/image33.jpeg" ContentType="image/jpeg"/>
  <Override PartName="/ppt/media/image79.jpeg" ContentType="image/jpeg"/>
  <Override PartName="/ppt/media/image84.png" ContentType="image/png"/>
  <Override PartName="/ppt/media/image74.png" ContentType="image/png"/>
  <Override PartName="/ppt/media/image78.jpeg" ContentType="image/jpeg"/>
  <Override PartName="/ppt/media/image72.png" ContentType="image/png"/>
  <Override PartName="/ppt/media/image77.png" ContentType="image/png"/>
  <Override PartName="/ppt/media/image76.png" ContentType="image/png"/>
  <Override PartName="/ppt/media/image7.wmf" ContentType="image/x-wmf"/>
  <Override PartName="/ppt/media/image73.png" ContentType="image/png"/>
  <Override PartName="/ppt/media/image69.png" ContentType="image/png"/>
  <Override PartName="/ppt/media/image25.png" ContentType="image/png"/>
  <Override PartName="/ppt/media/image90.png" ContentType="image/png"/>
  <Override PartName="/ppt/media/image18.jpeg" ContentType="image/jpeg"/>
  <Override PartName="/ppt/media/image56.wmf" ContentType="image/x-wmf"/>
  <Override PartName="/ppt/media/image57.wmf" ContentType="image/x-wmf"/>
  <Override PartName="/ppt/media/image14.jpeg" ContentType="image/jpeg"/>
  <Override PartName="/ppt/media/image3.wmf" ContentType="image/x-wmf"/>
  <Override PartName="/ppt/media/image15.wmf" ContentType="image/x-wmf"/>
  <Override PartName="/ppt/media/image89.jpeg" ContentType="image/jpeg"/>
  <Override PartName="/ppt/media/image1.jpeg" ContentType="image/jpeg"/>
  <Override PartName="/ppt/media/image68.wmf" ContentType="image/x-wmf"/>
  <Override PartName="/ppt/media/image35.jpeg" ContentType="image/jpeg"/>
  <Override PartName="/ppt/media/image47.png" ContentType="image/png"/>
  <Override PartName="/ppt/media/image37.wmf" ContentType="image/x-wmf"/>
  <Override PartName="/ppt/media/image88.jpeg" ContentType="image/jpeg"/>
  <Override PartName="/ppt/media/image16.png" ContentType="image/png"/>
  <Override PartName="/ppt/media/image4.png" ContentType="image/png"/>
  <Override PartName="/ppt/media/image20.jpeg" ContentType="image/jpeg"/>
  <Override PartName="/ppt/media/image12.wmf" ContentType="image/x-wmf"/>
  <Override PartName="/ppt/media/image8.jpeg" ContentType="image/jpeg"/>
  <Override PartName="/ppt/media/image26.png" ContentType="image/png"/>
  <Override PartName="/ppt/media/image91.png" ContentType="image/png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embeddings/oleObject3.xlsx" ContentType="application/vnd.openxmlformats-officedocument.spreadsheetml.sheet"/>
  <Override PartName="/ppt/embeddings/oleObject4.xlsx" ContentType="application/vnd.openxmlformats-officedocument.spreadsheetml.sheet"/>
  <Override PartName="/ppt/embeddings/oleObject2.xlsx" ContentType="application/vnd.openxmlformats-officedocument.spreadsheetml.shee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2.xml.rels" ContentType="application/vnd.openxmlformats-package.relationships+xml"/>
  <Override PartName="/ppt/slides/_rels/slide93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70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8.xml.rels" ContentType="application/vnd.openxmlformats-package.relationships+xml"/>
  <Override PartName="/ppt/slides/_rels/slide95.xml.rels" ContentType="application/vnd.openxmlformats-package.relationships+xml"/>
  <Override PartName="/ppt/slides/_rels/slide11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96.xml.rels" ContentType="application/vnd.openxmlformats-package.relationships+xml"/>
  <Override PartName="/ppt/slides/_rels/slide94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94.xml" ContentType="application/vnd.openxmlformats-officedocument.presentationml.slide+xml"/>
  <Override PartName="/ppt/slides/slide29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62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61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  <p:sldId id="348" r:id="rId97"/>
    <p:sldId id="349" r:id="rId98"/>
    <p:sldId id="350" r:id="rId99"/>
    <p:sldId id="351" r:id="rId100"/>
    <p:sldId id="352" r:id="rId10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slide" Target="slides/slide93.xml"/><Relationship Id="rId98" Type="http://schemas.openxmlformats.org/officeDocument/2006/relationships/slide" Target="slides/slide94.xml"/><Relationship Id="rId99" Type="http://schemas.openxmlformats.org/officeDocument/2006/relationships/slide" Target="slides/slide95.xml"/><Relationship Id="rId100" Type="http://schemas.openxmlformats.org/officeDocument/2006/relationships/slide" Target="slides/slide96.xml"/><Relationship Id="rId101" Type="http://schemas.openxmlformats.org/officeDocument/2006/relationships/slide" Target="slides/slide97.xml"/><Relationship Id="rId10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92664-8698-4818-B534-D1D816CAD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4E0D7-667C-41D7-B87A-148CE393E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BF784-FB11-4576-A6BD-111D052DA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2EFD9-82EC-4B55-AD29-66689AEDD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16E7C-95D6-44EF-B432-1BF9A4B68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7D955-F84C-4158-8839-D3F65A81C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F355A-DB5E-4C00-B627-64EBC3D5D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EBC87-0CC0-4C90-8F5D-D00619A13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68C40-DB85-4A05-87F6-54BF3D371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4FB0E-D23B-49DB-AAE5-CF200D6FE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36952-4B41-4424-8E43-EBE799665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D2CE2-C473-46C7-923D-3AE47A73F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19E55-B839-44CD-A1C2-D9B4C5BEB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EF365-4DA1-451C-86BD-0E8D98623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0A2AF-97D9-47B0-955E-126D81454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DE355-3A46-4CB7-806D-9E923043B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8B05F-23D8-4B76-8D7E-5AEDF579F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9F79B2-0C34-4B13-BC8F-4008A4BD9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82A7AE-AF78-4F35-AC47-906264D10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9D1E75-AD23-4BE4-BF0D-4440165E7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C5E899-8CC6-428B-AF5B-C4EB4F165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4202DD-18F2-417F-A49F-D0C20EACD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FF002-CC60-4E72-BE84-BA89FF450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E87D81-7C0C-4366-A852-E4DFD95FB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2D17BA-02CE-418D-91DF-75AB85D47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CC46C9-CFA0-43C6-8230-4A65E3D4D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F6F97D-DB8D-4A0F-89C5-9083CDE53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DC29EB-B015-4D42-AFDE-811FB4015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A68B21-E451-456B-83F0-E51D71E68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F1C382-3743-443C-A45C-6FECFAAAB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2DFDB-AFAE-471C-BF8F-DCA8AE28A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88552-F6D6-4F83-B6D9-BF8D5EA91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1A985-E2D2-4BD5-A3C6-FBD793BCE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B519D-1DEC-4565-B07C-1A9A410D2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81B31-DFB5-488C-B531-936B31DD0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CEE77-E4DE-4CB4-9BA4-879249B25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1ADA1-8CB4-4B4F-AF47-E6DC723D6D1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3CF45-6EC9-4345-B46B-F5EE5E4E8B4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237EF-1423-4C27-9CE7-B4D73559420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package" Target="../embeddings/oleObject1.docx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37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8.wmf"/><Relationship Id="rId6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42.wmf"/><Relationship Id="rId4" Type="http://schemas.openxmlformats.org/officeDocument/2006/relationships/slideLayout" Target="../slideLayouts/slideLayout2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6.png"/><Relationship Id="rId3" Type="http://schemas.openxmlformats.org/officeDocument/2006/relationships/slideLayout" Target="../slideLayouts/slideLayout2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7.png"/><Relationship Id="rId4" Type="http://schemas.openxmlformats.org/officeDocument/2006/relationships/slideLayout" Target="../slideLayouts/slideLayout2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8.png"/><Relationship Id="rId4" Type="http://schemas.openxmlformats.org/officeDocument/2006/relationships/slideLayout" Target="../slideLayouts/slideLayout2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2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0.png"/><Relationship Id="rId3" Type="http://schemas.openxmlformats.org/officeDocument/2006/relationships/package" Target="../embeddings/oleObject1.docx"/><Relationship Id="rId4" Type="http://schemas.openxmlformats.org/officeDocument/2006/relationships/image" Target="../media/image51.wmf"/><Relationship Id="rId5" Type="http://schemas.openxmlformats.org/officeDocument/2006/relationships/package" Target="../embeddings/oleObject2.docx"/><Relationship Id="rId6" Type="http://schemas.openxmlformats.org/officeDocument/2006/relationships/image" Target="../media/image52.wmf"/><Relationship Id="rId7" Type="http://schemas.openxmlformats.org/officeDocument/2006/relationships/package" Target="../embeddings/oleObject3.xlsx"/><Relationship Id="rId8" Type="http://schemas.openxmlformats.org/officeDocument/2006/relationships/image" Target="../media/image53.wmf"/><Relationship Id="rId9" Type="http://schemas.openxmlformats.org/officeDocument/2006/relationships/package" Target="../embeddings/oleObject4.xlsx"/><Relationship Id="rId10" Type="http://schemas.openxmlformats.org/officeDocument/2006/relationships/image" Target="../media/image54.wmf"/><Relationship Id="rId11" Type="http://schemas.openxmlformats.org/officeDocument/2006/relationships/slideLayout" Target="../slideLayouts/slideLayout2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5.jpeg"/><Relationship Id="rId3" Type="http://schemas.openxmlformats.org/officeDocument/2006/relationships/package" Target="../embeddings/oleObject1.docx"/><Relationship Id="rId4" Type="http://schemas.openxmlformats.org/officeDocument/2006/relationships/image" Target="../media/image56.wmf"/><Relationship Id="rId5" Type="http://schemas.openxmlformats.org/officeDocument/2006/relationships/package" Target="../embeddings/oleObject2.xlsx"/><Relationship Id="rId6" Type="http://schemas.openxmlformats.org/officeDocument/2006/relationships/image" Target="../media/image57.wmf"/><Relationship Id="rId7" Type="http://schemas.openxmlformats.org/officeDocument/2006/relationships/package" Target="../embeddings/oleObject3.xlsx"/><Relationship Id="rId8" Type="http://schemas.openxmlformats.org/officeDocument/2006/relationships/image" Target="../media/image58.wmf"/><Relationship Id="rId9" Type="http://schemas.openxmlformats.org/officeDocument/2006/relationships/slideLayout" Target="../slideLayouts/slideLayout2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9.jpeg"/><Relationship Id="rId3" Type="http://schemas.openxmlformats.org/officeDocument/2006/relationships/image" Target="../media/image60.jpeg"/><Relationship Id="rId4" Type="http://schemas.openxmlformats.org/officeDocument/2006/relationships/image" Target="../media/image61.png"/><Relationship Id="rId5" Type="http://schemas.openxmlformats.org/officeDocument/2006/relationships/slideLayout" Target="../slideLayouts/slideLayout2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2.wmf"/><Relationship Id="rId3" Type="http://schemas.openxmlformats.org/officeDocument/2006/relationships/image" Target="../media/image63.png"/><Relationship Id="rId4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4.wmf"/><Relationship Id="rId3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5.wmf"/><Relationship Id="rId3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6.wmf"/><Relationship Id="rId3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7.wmf"/><Relationship Id="rId3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68.wmf"/><Relationship Id="rId2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69.png"/><Relationship Id="rId2" Type="http://schemas.openxmlformats.org/officeDocument/2006/relationships/slideLayout" Target="../slideLayouts/slideLayout2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70.png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71.png"/><Relationship Id="rId2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2.png"/><Relationship Id="rId3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3.png"/><Relationship Id="rId3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74.png"/><Relationship Id="rId2" Type="http://schemas.openxmlformats.org/officeDocument/2006/relationships/slideLayout" Target="../slideLayouts/slideLayout1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75.png"/><Relationship Id="rId2" Type="http://schemas.openxmlformats.org/officeDocument/2006/relationships/slideLayout" Target="../slideLayouts/slideLayout1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76.png"/><Relationship Id="rId2" Type="http://schemas.openxmlformats.org/officeDocument/2006/relationships/slideLayout" Target="../slideLayouts/slideLayout1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77.png"/><Relationship Id="rId2" Type="http://schemas.openxmlformats.org/officeDocument/2006/relationships/slideLayout" Target="../slideLayouts/slideLayout1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78.jpeg"/><Relationship Id="rId2" Type="http://schemas.openxmlformats.org/officeDocument/2006/relationships/image" Target="../media/image79.jpeg"/><Relationship Id="rId3" Type="http://schemas.openxmlformats.org/officeDocument/2006/relationships/image" Target="../media/image80.jpeg"/><Relationship Id="rId4" Type="http://schemas.openxmlformats.org/officeDocument/2006/relationships/package" Target="../embeddings/oleObject1.docx"/><Relationship Id="rId5" Type="http://schemas.openxmlformats.org/officeDocument/2006/relationships/image" Target="../media/image81.wmf"/><Relationship Id="rId6" Type="http://schemas.openxmlformats.org/officeDocument/2006/relationships/slideLayout" Target="../slideLayouts/slideLayout2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51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5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53.wmf"/><Relationship Id="rId8" Type="http://schemas.openxmlformats.org/officeDocument/2006/relationships/package" Target="../embeddings/oleObject4.xlsx"/><Relationship Id="rId9" Type="http://schemas.openxmlformats.org/officeDocument/2006/relationships/image" Target="../media/image54.wmf"/><Relationship Id="rId10" Type="http://schemas.openxmlformats.org/officeDocument/2006/relationships/slideLayout" Target="../slideLayouts/slideLayout1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56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57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58.wmf"/><Relationship Id="rId8" Type="http://schemas.openxmlformats.org/officeDocument/2006/relationships/slideLayout" Target="../slideLayouts/slideLayout1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82.jpeg"/><Relationship Id="rId2" Type="http://schemas.openxmlformats.org/officeDocument/2006/relationships/image" Target="../media/image83.png"/><Relationship Id="rId3" Type="http://schemas.openxmlformats.org/officeDocument/2006/relationships/slideLayout" Target="../slideLayouts/slideLayout2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84.png"/><Relationship Id="rId2" Type="http://schemas.openxmlformats.org/officeDocument/2006/relationships/slideLayout" Target="../slideLayouts/slideLayout1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85.png"/><Relationship Id="rId2" Type="http://schemas.openxmlformats.org/officeDocument/2006/relationships/slideLayout" Target="../slideLayouts/slideLayout1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86.png"/><Relationship Id="rId2" Type="http://schemas.openxmlformats.org/officeDocument/2006/relationships/slideLayout" Target="../slideLayouts/slideLayout1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87.png"/><Relationship Id="rId2" Type="http://schemas.openxmlformats.org/officeDocument/2006/relationships/slideLayout" Target="../slideLayouts/slideLayout1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88.jpeg"/><Relationship Id="rId2" Type="http://schemas.openxmlformats.org/officeDocument/2006/relationships/image" Target="../media/image82.jpeg"/><Relationship Id="rId3" Type="http://schemas.openxmlformats.org/officeDocument/2006/relationships/slideLayout" Target="../slideLayouts/slideLayout13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89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0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91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92.png"/><Relationship Id="rId8" Type="http://schemas.openxmlformats.org/officeDocument/2006/relationships/slideLayout" Target="../slideLayouts/slideLayout13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7546"/>
            </a:gs>
            <a:gs pos="100000">
              <a:srgbClr val="99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Лекция 1. Общая экология и экология человек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Предмет и метод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8934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276480" y="838080"/>
            <a:ext cx="886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ЧТО ТАКОЕ ЭКОЛОГИЯ ЧЕЛОВЕКА? РАЗНЫЕ ПОДХОД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04920" y="1371600"/>
            <a:ext cx="85338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И, наконец, третий подход, продолжающий представл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общей экологии, рассматривает экологию человека ка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экологию вида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Homo sapiens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, взаимодействующего со средой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При этом следует рассматривать все основные уровн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организации - индивидуум (это аутэкологический 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эколого-физиологический уровень), надорганизменны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системы (аналог популяционного уровня других видов) и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наконец, биосферные функции человека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В нашем курсе мы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удем придерживаться этого, синтетического подхода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делив наибольшее внимание системам надорганизменного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ровня, динамика которых во многом связана с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емографическими процессами - рождаемостью, смертность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 расселением (эмиграцией и иммиграцией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00c8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5105520" y="3886200"/>
            <a:ext cx="2666880" cy="11430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 Cyr"/>
              </a:rPr>
              <a:t>«широкое» пониман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 Cyr"/>
              </a:rPr>
              <a:t>(гуманитарное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447920" y="3886200"/>
            <a:ext cx="2666880" cy="11430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 Cyr"/>
              </a:rPr>
              <a:t>«узкое» понимание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 Cyr"/>
              </a:rPr>
              <a:t>(медико-физиологическое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905120" y="1219320"/>
            <a:ext cx="5486400" cy="190476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 Cyr"/>
              </a:rPr>
              <a:t>ЭКОЛОГИЯ ЧЕЛОВЕ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038480" y="5105520"/>
            <a:ext cx="1600200" cy="144756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 Cyr"/>
              </a:rPr>
              <a:t>Синтез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 Cyr"/>
              </a:rPr>
              <a:t>(общая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 Cyr"/>
              </a:rPr>
              <a:t>экология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819520" y="312408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553080" y="312408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724280" y="3124080"/>
            <a:ext cx="76320" cy="1981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76212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imes New Roman"/>
              </a:rPr>
              <a:t>Вид: </a:t>
            </a:r>
            <a:r>
              <a:rPr b="0" i="1" lang="en-US" sz="3200" spc="-1" strike="noStrike">
                <a:solidFill>
                  <a:srgbClr val="0000ff"/>
                </a:solidFill>
                <a:latin typeface="Times New Roman"/>
              </a:rPr>
              <a:t>Homo sapiens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Род: </a:t>
            </a:r>
            <a:r>
              <a:rPr b="0" i="1" lang="en-US" sz="3200" spc="-1" strike="noStrike">
                <a:solidFill>
                  <a:srgbClr val="0000ff"/>
                </a:solidFill>
                <a:latin typeface="Times New Roman"/>
              </a:rPr>
              <a:t>Hom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imes New Roman"/>
              </a:rPr>
              <a:t>Семейство: </a:t>
            </a:r>
            <a:r>
              <a:rPr b="0" i="1" lang="en-US" sz="3200" spc="-1" strike="noStrike">
                <a:solidFill>
                  <a:srgbClr val="0000ff"/>
                </a:solidFill>
                <a:latin typeface="Times New Roman"/>
              </a:rPr>
              <a:t>Hominida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imes New Roman"/>
              </a:rPr>
              <a:t>Надсемейство: </a:t>
            </a:r>
            <a:r>
              <a:rPr b="0" i="1" lang="en-US" sz="3200" spc="-1" strike="noStrike">
                <a:solidFill>
                  <a:srgbClr val="0000ff"/>
                </a:solidFill>
                <a:latin typeface="Times New Roman"/>
              </a:rPr>
              <a:t>Hominoide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imes New Roman"/>
              </a:rPr>
              <a:t>Отряд: </a:t>
            </a:r>
            <a:r>
              <a:rPr b="0" i="1" lang="en-US" sz="3200" spc="-1" strike="noStrike">
                <a:solidFill>
                  <a:srgbClr val="0000ff"/>
                </a:solidFill>
                <a:latin typeface="Times New Roman"/>
              </a:rPr>
              <a:t>Prima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Класс: </a:t>
            </a:r>
            <a:r>
              <a:rPr b="0" i="1" lang="en-US" sz="3200" spc="-1" strike="noStrike">
                <a:solidFill>
                  <a:srgbClr val="0000ff"/>
                </a:solidFill>
                <a:latin typeface="Times New Roman"/>
              </a:rPr>
              <a:t>Mammal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title"/>
          </p:nvPr>
        </p:nvSpPr>
        <p:spPr>
          <a:xfrm>
            <a:off x="0" y="5331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Человек  - биологический вид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901440" y="5451480"/>
            <a:ext cx="827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Человек – гомойотермный (теплокровный) вид, имеющ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ного общего (особенно на уровне организма, т.е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утэкологическом уровне) с другими видами млекопитающи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50a0c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976320" y="650880"/>
            <a:ext cx="81802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При построении экологии человека (в том числе 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при построении экологической демографии человека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необходимо  учитывать как общие с другим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видами закономерности, так и специфику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 дальнейшем мы узнаем, что человек - закономерно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орождение прогрессивной эволюции, основной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ектор которой направлен на усиление поток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энергии и ускорение круговорота вещест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Кроме того, основное приспособление человек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роявляется на уровне, аналогичном популяционному, 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оциализация (сотрудничество, совместное построе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тношений со средой) - необходимый атрибут этой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сновной адаптации человека, позволившей ему изменят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экологические функции без изменения наследственной баз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Лекция 2. Прогрессивная биологическая эволюция и человек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Энергетические аспекты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508680" y="879480"/>
            <a:ext cx="86634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«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опоставимый» энергетический обмен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(А.И. Зотин, А.А. Зотин, 1999) -эт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оэффициент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 аллометрическом уравнен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ависимости интенсивности обмена 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)от характерны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ля вида размеров (массы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)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a M</a:t>
            </a:r>
            <a:r>
              <a:rPr b="0" i="1" lang="ru-RU" sz="2400" spc="-1" strike="noStrike" baseline="30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иологический смысл этого коэффициента - ожидаема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еличина энергозатрат при единичной массе тела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эффициент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 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ллометрический экспонент) мало изменяетс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 разных видо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7960" y="4575240"/>
            <a:ext cx="7445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Проф. А.И. Зотиным было показано, что величина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может служить показателем организованности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упорядоченности (т.е. сложности), как выраже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термодинамического потенциала (дисспативно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функции по И. Р. Пригожину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7575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3" name=""/>
          <p:cNvGraphicFramePr/>
          <p:nvPr/>
        </p:nvGraphicFramePr>
        <p:xfrm>
          <a:off x="685800" y="1066680"/>
          <a:ext cx="7467480" cy="502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066680"/>
                    <a:ext cx="746748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57759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2438280" y="1752480"/>
            <a:ext cx="4572000" cy="441972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1832040" y="6172200"/>
            <a:ext cx="60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ладимир Иванович Вернадский (1863-194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128600" y="345960"/>
            <a:ext cx="7601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Такая тенденция согласуется с представлениям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.И. Вернадского о ускорении круговорота вещест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и усиления потока энергии по мере эволюции биосфер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748080" y="498600"/>
            <a:ext cx="7960680" cy="20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Гипотеза «термальных  барьеров» (Зотин, Зотин, 1999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огласно этой гипотезе, пойкилотермные (эндотермные) животные н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огут иметь величину сопоставимого обмена более (5-8 мВт/г)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наче они погибнут от перегрева. Это -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первый тепловой барьер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остигнутый у прямокрылых и однопроходных млекопитающих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2590920" y="3809880"/>
          <a:ext cx="3504960" cy="26593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90920" y="3809880"/>
                    <a:ext cx="3504960" cy="2659320"/>
                  </a:xfrm>
                  <a:prstGeom prst="rect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21" name=""/>
          <p:cNvSpPr/>
          <p:nvPr/>
        </p:nvSpPr>
        <p:spPr>
          <a:xfrm>
            <a:off x="755640" y="2514600"/>
            <a:ext cx="8147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ледование тенденции прогрессивной эволюции привело 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азвитию гомойотермии. Однако по мере биоэнергетического прогресса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.е. увеличения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был достигнут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второй тепловой барьер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в 48-50 мВт/г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(у воробьиных птиц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895480" y="5943600"/>
            <a:ext cx="30481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895480" y="4724280"/>
            <a:ext cx="28195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388920" y="5756400"/>
            <a:ext cx="246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ервый теплово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барье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388560" y="4384800"/>
            <a:ext cx="240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торой теплово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барье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e698a"/>
            </a:gs>
            <a:gs pos="100000">
              <a:srgbClr val="4dafe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198720" y="574560"/>
            <a:ext cx="8884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РОДОЛЖЕНИЕ ТЕНДЕНЦИИ К ПРОГРЕССИВНО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ЭВОЛЮЦИИ БЫЛО МОЖНО ТОЛЬКО ПРИ ПЕРЕХОД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К НОВОМУ (НЕБИОХИМИЧЕСКОМУ) СПОСОБУ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ОЛУЧЕНИЯ  И РАСХОДОВАНИЯ ЭНЕРГИ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НЕ ИЗ ПИЩИ) И СВЯЗАННЫМ С ЭТИМИ ПРОЦЕССАМ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ИСПОЛЬЗОВАНИЕМ НОВЫХ РЕСУРСОВ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978120" y="3394080"/>
            <a:ext cx="75355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Это стало возможным с появлением цивилизации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которая позволила источники энергии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не организм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Такая способность возможна только развитых системах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олучения, хранения и использование информац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сознание), но и одновременно с  социализацией 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появлением общества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00d1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676520" y="2209680"/>
            <a:ext cx="601956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Так что же это за выскочка среди наук, которая представляется нам набором фактов без всякой теории и которая явно страдает от избытка наблюдений и от отсутствия принципов для их классификации? А существует ли вообще такая наука – экология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Эймьян Макфедьен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196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19320" y="453960"/>
            <a:ext cx="62481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4400" spc="-1" strike="noStrike">
                <a:solidFill>
                  <a:srgbClr val="000000"/>
                </a:solidFill>
                <a:latin typeface="Times New Roman"/>
              </a:rPr>
              <a:t>Эколог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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0" y="557280"/>
            <a:ext cx="9245520" cy="573552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1739520" y="803160"/>
            <a:ext cx="6599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требление энергии на одного человека в сутк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Дж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319000" y="6137280"/>
            <a:ext cx="144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Лет наза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159840" y="447840"/>
            <a:ext cx="8078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Стадии исторического развития человечества и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значения коэффициента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(мВт/г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914400" y="2057400"/>
          <a:ext cx="7391520" cy="34290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3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14400" y="2057400"/>
                    <a:ext cx="7391520" cy="342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4" name=""/>
          <p:cNvGraphicFramePr/>
          <p:nvPr/>
        </p:nvGraphicFramePr>
        <p:xfrm>
          <a:off x="685800" y="914400"/>
          <a:ext cx="7924680" cy="53467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914400"/>
                    <a:ext cx="7924680" cy="534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6" name=""/>
          <p:cNvSpPr/>
          <p:nvPr/>
        </p:nvSpPr>
        <p:spPr>
          <a:xfrm flipH="1">
            <a:off x="4190760" y="4343400"/>
            <a:ext cx="7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295280" y="2286000"/>
            <a:ext cx="2667240" cy="20574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038480" y="4343400"/>
            <a:ext cx="1828800" cy="1143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267080" y="5334120"/>
            <a:ext cx="1676520" cy="15228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219320" y="4952880"/>
            <a:ext cx="3047760" cy="38124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867280" y="5410080"/>
            <a:ext cx="2362320" cy="7632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685800" y="1981080"/>
            <a:ext cx="8458200" cy="406728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792360" y="650880"/>
            <a:ext cx="8271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мена экологических функций сопровождалась быстрым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ростом численности человечеств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3048120" y="228600"/>
            <a:ext cx="2620800" cy="342900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2363760" y="3581280"/>
            <a:ext cx="429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Рональд А. Фишер (1890-196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66800" y="4343400"/>
            <a:ext cx="7811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Критерий приспособленност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среднее число потомков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достигающих репродуктивного возраста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которых средний индивидуум в популяции оставляет в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течение жизни.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риспособленност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тем больше, че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быстрее увеличивается численность, т.е.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вязана 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демографическими характеристикам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0" y="0"/>
            <a:ext cx="9144000" cy="64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 эволюционно-экологической точки зрения человек - эт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чрезвычайно приспособленный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у существованию в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заимодействии с окружающей средой (в широком смысле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ид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чевидно, именно высокая приспособленность обеспечила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широчайшее распространение людей на планете и стремительное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(относительно) увеличение их численности за исторический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ериод. При этом, как мы видели,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мена экологической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«роли» (экологических ниш), происходила без существенног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изменения наследственной базы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азвитие человечества шло не по обычному для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ругих видов пути «проб и ошибок», когда естественный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тбор, «играя» в процессе смены поколений с наследственностью 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зменчивостью, вырабатывает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черты, обеспечивающ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ысокую приспособленность - адаптаци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Что же является главной адаптацией человека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ля ответа на этот вопрос необходимо рассмотреть разны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труктурные уровни систем, в которые организован вид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Homo Sapien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daae8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Лекция 3. Адаптации человека на уровне организм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Немного об аутэкологии и экофизиологии человека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3c19a"/>
            </a:gs>
            <a:gs pos="100000">
              <a:srgbClr val="99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5040" y="0"/>
            <a:ext cx="9227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Понятие «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адаптация»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трактуют по-разному, хотя эт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трактовки объединяет то, что адаптации –  это характеристики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позволяющие повышать приспособленность, проявляющуюся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прежде всего, в увеличении относительного количеств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жизнеспособного потомств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97000" y="2362320"/>
            <a:ext cx="851256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ервая трактовка – широкая, согласно которой утверждается, что любой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изнак), позволяющий  противодействовать негативным (снижающим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одуктивность или вовсе приводящим к гибели организмов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оздействиям факторов среды можно назвать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«адаптацией»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и этом не важно, имеет ли это качество наследственно закрепленную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(т.е. передающуюся следующим поколениям) биохимическую базу, или это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езультат гомеостатических связей со средой на уровне физиологических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еакций (т.е. тех реакций, которые, с генетической точки зрения являютс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одификациями,  не выходящими за пределы «нормы реакции»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огда то, что называют «акклимацией» (проявление «адаптивных» свойст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искусственных (экспериментальных) условиях, и «акклиматизацией» -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о же самое в условиях, изменяющихся независимо от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физиолога-экспериментатора (под действием неуправляемых факторов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494b9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0" y="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Понятия «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адаптации» и «акклимации»-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альтернативная трактовка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24640" y="1066680"/>
            <a:ext cx="87105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ругое понимание того,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ак различать «адаптацию» и «акклимацию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вязано с разделением уровня проявления свойств, позволяющих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збежать гибели или увеличить продукцию - быстрее расти и индивидуальн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азвиваться (зреть) на уровне реакций организма («акклимацию» с этой точк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зрения) с уровнем, проявляющимся на надорганизменном (популяционном с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генетико-эволюционном смысле) уровне, когда эти свойства имеют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следственно закрепленный характер. Тогда это «настоящая» адаптация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8560" y="4343400"/>
            <a:ext cx="83995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есмотря на то, что пределы нормы реакции - это, безусловно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следуемое свойство, все же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акое определение «адаптаций» и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«акклимаций» (первые наследуемы, т.е. всегда усваиваются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следующими поколениями, а вторые- это скорее проявление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индивидуальных характеристик отдельного организма) более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оответствует представлениям о системной иерархии живых объектов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ac713"/>
            </a:gs>
            <a:gs pos="100000">
              <a:srgbClr val="dae91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6" name=""/>
          <p:cNvGraphicFramePr/>
          <p:nvPr/>
        </p:nvGraphicFramePr>
        <p:xfrm>
          <a:off x="5638680" y="2514600"/>
          <a:ext cx="3505320" cy="220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2514600"/>
                    <a:ext cx="3505320" cy="22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6172200" y="5257800"/>
            <a:ext cx="2819520" cy="144792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749520" y="270000"/>
            <a:ext cx="8035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Зоогеографическое правило Бергман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реди близких форм гомойотермных животных те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что обитают в более холодном климате, как правило имею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олее крупные размер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04920" y="3048120"/>
            <a:ext cx="510516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ичиной этого является то, чт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еплопродукция имеет более высоки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аллометрический коэффициент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зависимости от массы тела, че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еплоотдача (первый имеет значение около 0,75, а второй – около 0,5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этому поддерживать постоянную температуру тела  крупным легче, чем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елким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b7b76d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590920" y="304920"/>
            <a:ext cx="3024000" cy="3571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8" name=""/>
          <p:cNvGraphicFramePr/>
          <p:nvPr/>
        </p:nvGraphicFramePr>
        <p:xfrm>
          <a:off x="609480" y="4038480"/>
          <a:ext cx="8001000" cy="21337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4038480"/>
                    <a:ext cx="8001000" cy="213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3c19a"/>
            </a:gs>
            <a:gs pos="100000">
              <a:srgbClr val="99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5651640" y="304920"/>
            <a:ext cx="3035160" cy="160020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2"/>
          <a:stretch/>
        </p:blipFill>
        <p:spPr>
          <a:xfrm>
            <a:off x="6248520" y="2514600"/>
            <a:ext cx="2368440" cy="131436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3"/>
          <a:stretch/>
        </p:blipFill>
        <p:spPr>
          <a:xfrm>
            <a:off x="6629400" y="4267080"/>
            <a:ext cx="2095560" cy="199404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/>
          <p:nvPr/>
        </p:nvSpPr>
        <p:spPr>
          <a:xfrm>
            <a:off x="304920" y="228600"/>
            <a:ext cx="4816440" cy="235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Правило Аллен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 гомойотермных животных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ыступающие части (теплоотдатчики –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данном примере  - уши), придающ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более грацильный облик, больше у тех, кто живет в более жарком климате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630120" y="1905120"/>
            <a:ext cx="18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Песец (Арктика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562000" y="3733920"/>
            <a:ext cx="337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расная лисица (Умереная зона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231960" y="6362640"/>
            <a:ext cx="273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Фенек (Северная Африка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29680" y="3352680"/>
            <a:ext cx="47192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определенном смысле правило Аллен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(в отличие правила Бергмана) объясняе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е стремление избежать переохлаждения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А стремление избежать перегрев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7c413"/>
            </a:gs>
            <a:gs pos="100000">
              <a:srgbClr val="dae91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533520" y="838080"/>
            <a:ext cx="86011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Правило Бергмана и правило Аллена в определенной степени противоречивы (например, африканские слоны большие, но в то же время и имеют большие уши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Поэтому каждое из них имеет много как подтверждений, так и исключений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Тем не менее показано (Алексеев, 1994 и другие), что часто (особенно если брать выборки из мест, где перемешивание населения было не слишком заметно)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эти правила соблюдаютс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7cd05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5029200" y="838080"/>
            <a:ext cx="1905120" cy="221004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/>
          <p:cNvPicPr/>
          <p:nvPr/>
        </p:nvPicPr>
        <p:blipFill>
          <a:blip r:embed="rId2"/>
          <a:stretch/>
        </p:blipFill>
        <p:spPr>
          <a:xfrm>
            <a:off x="6934320" y="838080"/>
            <a:ext cx="1752480" cy="221004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3"/>
          <a:stretch/>
        </p:blipFill>
        <p:spPr>
          <a:xfrm>
            <a:off x="5181480" y="3809880"/>
            <a:ext cx="1905120" cy="160020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/>
          <p:cNvPicPr/>
          <p:nvPr/>
        </p:nvPicPr>
        <p:blipFill>
          <a:blip r:embed="rId4"/>
          <a:stretch/>
        </p:blipFill>
        <p:spPr>
          <a:xfrm>
            <a:off x="7086600" y="3809880"/>
            <a:ext cx="1828800" cy="160020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/>
          <p:nvPr/>
        </p:nvSpPr>
        <p:spPr>
          <a:xfrm>
            <a:off x="228600" y="380880"/>
            <a:ext cx="44355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авило Бергман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часто может считаться выполняемым для человека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 фотографиях типичны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по фенооблику) северянин (массивный человек) и типичные южане (небольшого роста и массы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29680" y="3733920"/>
            <a:ext cx="5004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десь жители Африки сравниваютс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 обитателем северных тундр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их фенооблике заметны различия 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фриканцы более грацильны.Это 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ллюстрация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авила Аллен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824400" y="498600"/>
            <a:ext cx="84380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ругое эколого-географическое правил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которое в связ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 распространением негроидной расы (а также с тем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что южане чаще брюнеты) давно считается применимым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 человеку. Это - так называемое правило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. Глогер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которо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ласит, что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 теплых и влажных климатических условия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краску гомойотермных животных больше определяю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емные  пигменты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- меланин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4840" y="3886200"/>
            <a:ext cx="4740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рнитолог Константин Глогер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зучал в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IX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географическую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зменчивость райской мухоловки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 пришел к тому, что вывел это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авило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2"/>
          <a:stretch/>
        </p:blipFill>
        <p:spPr>
          <a:xfrm>
            <a:off x="5410080" y="3429000"/>
            <a:ext cx="333396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992880" y="990720"/>
            <a:ext cx="81010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Есть еще один фенотипический признак (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осовой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указатель или индекс Джонстона-Бакстон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), которы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широко используется в антропологии (и расоведении).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то отношение наибольших ширины носа к его длин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начение этого индекса больше у людей, принадлежащи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 «тропическим» типам (потому что их наследственная баз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формировалась под действием факторов среды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беспечивающих наиболее адаптивное изменени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енотипических характеристик организма н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утэкологическом уровне (как у других видов) путем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«игры» естественного отбора с наследственностью 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зменчивостью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2"/>
          <a:stretch/>
        </p:blipFill>
        <p:spPr>
          <a:xfrm>
            <a:off x="3048120" y="685800"/>
            <a:ext cx="2438280" cy="167652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355400" y="117360"/>
            <a:ext cx="667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СЕРПОВИДНО-КЛЕТОЧНАЯ АНЕМИЯ (СКА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071720" y="2362320"/>
            <a:ext cx="7765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имером работы генетических механизмов, сходных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 таковыми у других видов является наследственно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аболевание, связанное с распространением аллеля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оторый в гомозиготе летален. Он должен бы быт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элиминирован, и его действительно нет в районах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где не распространена тропическая маляри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88440" y="4800600"/>
            <a:ext cx="9004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ело в том, что малярийные плазмодии не могут размножатьс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 измененных у гетерозигот  «серповидных» эритроцита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этому пониженная жизнеспособность больных СК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«компенсируется» снижением жизнеспособности больных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алярией, что позволяет гену (аллелю) СКА не исчезать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05300"/>
            </a:gs>
            <a:gs pos="100000">
              <a:srgbClr val="ff66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597960" y="3200400"/>
            <a:ext cx="7789680" cy="29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уществует четыре допустимых комбинации агглютининов (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и 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c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агглютиногенами 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и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)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: то, какая из них характерна для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данного человека, определяет его группу крови по системе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B0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α и β: первая (0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A и β: вторая (A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α и B: третья (B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A и B: четвёртая (A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28480" y="533520"/>
            <a:ext cx="7465320" cy="23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Группы крови у человека определяются тремя альтернативными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вариантами одного гена (А, В, О), расположенного в 9-й хромосоме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Эта система групп крови наследуется по множественному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принципу, при котором действие различных вариантов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одного гена проявляется в равной степени, независимо друг от друга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Попарное сочетание этих генов определяет одну из четырех групп кров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363040" y="228600"/>
            <a:ext cx="329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ГРУППЫ КРОВИ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B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100000">
              <a:srgbClr val="00a6d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6553080" y="1295280"/>
            <a:ext cx="2133720" cy="236232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/>
          <p:nvPr/>
        </p:nvSpPr>
        <p:spPr>
          <a:xfrm>
            <a:off x="1298520" y="0"/>
            <a:ext cx="689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В распределении групп крови также ка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и  различных других аутэкологических признака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существуют различия для выходцев из разных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частей человечеств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137960" y="1676520"/>
            <a:ext cx="5036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апример, североамериканские индейцы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чти исключительно обладают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ервой группой (0 по системе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B0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747720" y="2743200"/>
            <a:ext cx="553464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Кроме того, многие физиологические признаки -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скорость тока крови, тип обмена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жировой или углеводный) различн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у представителей разных народов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08240" y="4038480"/>
            <a:ext cx="8730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пример, эскимосы имеют медленный ток крови, что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пособствует существованию в условиях холод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боригены севера (ненцы и чукчи) имеют жировой ти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бмена (их пища - рыба и мясо), а выходцы из юго-восточной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зии - углеводный (так как едят в основном растительную пищу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6480" y="0"/>
            <a:ext cx="8573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Однако, факторы эволюции, работающие у других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идов, не привели к сколько-ни будь радикальным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изменениям наследственности человека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их действие ограничено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1"/>
          <a:stretch/>
        </p:blipFill>
        <p:spPr>
          <a:xfrm>
            <a:off x="6553080" y="1219320"/>
            <a:ext cx="2257560" cy="3371760"/>
          </a:xfrm>
          <a:prstGeom prst="rect">
            <a:avLst/>
          </a:prstGeom>
          <a:ln w="0">
            <a:noFill/>
          </a:ln>
        </p:spPr>
      </p:pic>
      <p:sp>
        <p:nvSpPr>
          <p:cNvPr id="294" name=""/>
          <p:cNvSpPr/>
          <p:nvPr/>
        </p:nvSpPr>
        <p:spPr>
          <a:xfrm>
            <a:off x="6546960" y="4800600"/>
            <a:ext cx="2594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ергей Сергеевич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Четверик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11400" y="2133720"/>
            <a:ext cx="5900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Этими факторами являются, как показа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.С. Четвериков (1)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изоляция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2)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утац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и рекомбинаци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(3)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«волны жизни»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колебания численности, а итог всему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одводит (4)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естественный отбо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81960" y="4648320"/>
            <a:ext cx="5751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Поэтому адаптации организменног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уровня, видимо, не могли полность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определять высокую приспособленност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человека. Основной адаптацие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является что-то друго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Лекция 4. Основная адаптация человек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ультура-основная адаптация человека проявляется на надорганизменном уровн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5181480" y="1523880"/>
            <a:ext cx="2011320" cy="639720"/>
          </a:xfrm>
          <a:prstGeom prst="rect">
            <a:avLst/>
          </a:prstGeom>
          <a:solidFill>
            <a:srgbClr val="33cccc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Сред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05120" y="1523880"/>
            <a:ext cx="2011320" cy="639720"/>
          </a:xfrm>
          <a:prstGeom prst="rect">
            <a:avLst/>
          </a:prstGeom>
          <a:solidFill>
            <a:srgbClr val="ff99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Организ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962520" y="1752480"/>
            <a:ext cx="118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962160" y="2057400"/>
            <a:ext cx="118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2668680"/>
            <a:ext cx="91440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-457200" y="1523880"/>
            <a:ext cx="914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2085840"/>
            <a:ext cx="914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00200" y="251460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66"/>
                </a:solidFill>
                <a:latin typeface="Times New Roman"/>
              </a:rPr>
              <a:t>Аутэкология – организм во взаимодействии со средой как система, отражающая видовые особенност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585440" y="3543480"/>
            <a:ext cx="659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cc"/>
                </a:solidFill>
                <a:latin typeface="Times New Roman"/>
              </a:rPr>
              <a:t>Экологическая физиология – функциональные взаимодейств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cc"/>
                </a:solidFill>
                <a:latin typeface="Times New Roman"/>
              </a:rPr>
              <a:t>организма и сред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564920" y="4510080"/>
            <a:ext cx="7057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Факториальная экология – воздействие факторов среды на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организмы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460800" y="228600"/>
            <a:ext cx="8767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так, мы убедились, что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сновная адаптация челове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иводит к тому, что он использует энергию н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иохимическим путем, а также способен осваивать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овые ресурсы, недоступные другим видам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та адаптация позволяет человеку продолжать лини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 увеличение показателя упорядоченности, характерну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ля прогрессивной эволюции, на которую указывал еще в 1925 г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.Н. Северцов, говоря о повышении «энерги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жизнедеятельности» в ходе ароморфозо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2"/>
          <a:stretch/>
        </p:blipFill>
        <p:spPr>
          <a:xfrm>
            <a:off x="3124080" y="3733920"/>
            <a:ext cx="2667240" cy="223812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>
            <a:off x="2209680" y="6035760"/>
            <a:ext cx="4457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лексей Николаевич Северцов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портрет работы М.А. Нестеров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616680" y="685800"/>
            <a:ext cx="794556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Эта адаптация позволила также человеку менят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экологические роли без существенны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изменения наследственной основы, т.е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труктуры ДНК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У других видов освоение новых экологических ниш 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это, как правило, появление новых форм, связанно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 действием факторов эволюции, среди которых важно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есто имеет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изоляция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группировок популяционного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ранг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ервое проявление этой новой адаптации привело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о-видимому, к расселению людей в пределах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йкумены, связанному с переходом от собирательств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к охоте на крупных животных (палеолитическа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революция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541800" y="228600"/>
            <a:ext cx="831132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акая адаптация связана не только со способностью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спользовать энергию, полученную вне организма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о и с развитой способностью передавать информаци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з поколения в поколение и обмениваться ею без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средства «информационных молекул»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се это, начиная с первого изменения экологическо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оли у первобытных охотников, использовавших огонь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евозможно без (1) развития сознания и (2) социализации 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бразования обществ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аким образом,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основная адаптация человека имее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надорганизменный характер, и связана с совместны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воздействием на окружающий мир (среду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314640" y="304920"/>
            <a:ext cx="861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Эту надорганизменную адаптацию, проявляющуюся 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уровне группировок, в чем-то аналогичных популяционны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группировкам других видов, можно назвать КУЛЬТУРОЙ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90920" y="1905120"/>
            <a:ext cx="4114800" cy="7617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888360" y="1981080"/>
            <a:ext cx="188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КУЛЬТУР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 flipH="1">
            <a:off x="2285640" y="2666880"/>
            <a:ext cx="685800" cy="9907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400800" y="2666880"/>
            <a:ext cx="533520" cy="914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295280" y="3657600"/>
            <a:ext cx="1905120" cy="8380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324480" y="3581280"/>
            <a:ext cx="1981440" cy="9144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526760" y="3809880"/>
            <a:ext cx="144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духовна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252120" y="373392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материальна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00760" y="4572000"/>
            <a:ext cx="8637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КУЛЬТУР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имеет две основные стороны, связанные 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сновными ее функциями - передачей информац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духовная культур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 и способностью получать и расходоват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энергию из внешних источников, а также осваивать новы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ресурсы (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материальная культур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500"/>
                            </p:stCondLst>
                            <p:childTnLst>
                              <p:par>
                                <p:cTn id="3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1000"/>
                            </p:stCondLst>
                            <p:childTnLst>
                              <p:par>
                                <p:cTn id="3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2000"/>
                            </p:stCondLst>
                            <p:childTnLst>
                              <p:par>
                                <p:cTn id="3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2500"/>
                            </p:stCondLst>
                            <p:childTnLst>
                              <p:par>
                                <p:cTn id="3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3000"/>
                            </p:stCondLst>
                            <p:childTnLst>
                              <p:par>
                                <p:cTn id="3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3500"/>
                            </p:stCondLst>
                            <p:childTnLst>
                              <p:par>
                                <p:cTn id="3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4" name=""/>
          <p:cNvGraphicFramePr/>
          <p:nvPr/>
        </p:nvGraphicFramePr>
        <p:xfrm>
          <a:off x="1523880" y="1397160"/>
          <a:ext cx="6094440" cy="40636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31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397160"/>
                    <a:ext cx="6094440" cy="406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6" name=""/>
          <p:cNvGraphicFramePr/>
          <p:nvPr/>
        </p:nvGraphicFramePr>
        <p:xfrm>
          <a:off x="1755720" y="1496880"/>
          <a:ext cx="5630760" cy="38642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31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755720" y="1496880"/>
                    <a:ext cx="5630760" cy="386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8" name=""/>
          <p:cNvSpPr/>
          <p:nvPr/>
        </p:nvSpPr>
        <p:spPr>
          <a:xfrm>
            <a:off x="840240" y="380880"/>
            <a:ext cx="725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«Глобальные революции» и изменение экологически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функций человека в историческом развит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" descr=""/>
          <p:cNvPicPr/>
          <p:nvPr/>
        </p:nvPicPr>
        <p:blipFill>
          <a:blip r:embed="rId2"/>
          <a:stretch/>
        </p:blipFill>
        <p:spPr>
          <a:xfrm>
            <a:off x="380880" y="838080"/>
            <a:ext cx="8534520" cy="579132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/>
          <p:nvPr/>
        </p:nvSpPr>
        <p:spPr>
          <a:xfrm>
            <a:off x="304920" y="49320"/>
            <a:ext cx="88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сле «промышленной революции»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XVII-XIX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. человечество освоило «резервные фонды» биосферы, изменяя  биогеохимические круговороты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Лекция 5. Основные характеристики биологических систем популяционного ранг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Воззрения современной популяционой эколог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992520" y="609480"/>
            <a:ext cx="6851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ПОПУЛЯЦИОННАЯ ЭКОЛОГИЯ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(ДЕМЭКОЛОГИЯ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4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graphicFrame>
        <p:nvGraphicFramePr>
          <p:cNvPr id="325" name=""/>
          <p:cNvGraphicFramePr/>
          <p:nvPr/>
        </p:nvGraphicFramePr>
        <p:xfrm>
          <a:off x="0" y="1676520"/>
          <a:ext cx="9144000" cy="15238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32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676520"/>
                    <a:ext cx="9144000" cy="152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" descr=""/>
          <p:cNvPicPr/>
          <p:nvPr/>
        </p:nvPicPr>
        <p:blipFill>
          <a:blip r:embed="rId2"/>
          <a:stretch/>
        </p:blipFill>
        <p:spPr>
          <a:xfrm>
            <a:off x="2895480" y="228600"/>
            <a:ext cx="1905120" cy="2362320"/>
          </a:xfrm>
          <a:prstGeom prst="rect">
            <a:avLst/>
          </a:prstGeom>
          <a:ln w="0">
            <a:noFill/>
          </a:ln>
        </p:spPr>
      </p:pic>
      <p:sp>
        <p:nvSpPr>
          <p:cNvPr id="328" name=""/>
          <p:cNvSpPr/>
          <p:nvPr/>
        </p:nvSpPr>
        <p:spPr>
          <a:xfrm>
            <a:off x="1603800" y="2514600"/>
            <a:ext cx="49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еодосий Григорьевич Добжанский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88320" y="5029200"/>
            <a:ext cx="7733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ЭВОЛЮЦИОННО-ГЕНЕТИЧЕСКИЙ АСПЕКТ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опуляция - элементарная единица микроэволюционног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роцесса (видообразования), а также элементарна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хорологическая (пространственная) единица вид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34600" y="2895480"/>
            <a:ext cx="7436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Популяция - совокупность индивидуумов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одного вида, населяющих определенную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относительно изолированную, территори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(акваторию) и обладающая  определенной степенью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панмиксии (возможности свободного скрещивания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500"/>
                            </p:stCondLst>
                            <p:childTnLst>
                              <p:par>
                                <p:cTn id="3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" descr=""/>
          <p:cNvPicPr/>
          <p:nvPr/>
        </p:nvPicPr>
        <p:blipFill>
          <a:blip r:embed="rId2"/>
          <a:stretch/>
        </p:blipFill>
        <p:spPr>
          <a:xfrm>
            <a:off x="3581280" y="228600"/>
            <a:ext cx="1438560" cy="1962000"/>
          </a:xfrm>
          <a:prstGeom prst="rect">
            <a:avLst/>
          </a:prstGeom>
          <a:ln w="0">
            <a:noFill/>
          </a:ln>
        </p:spPr>
      </p:pic>
      <p:sp>
        <p:nvSpPr>
          <p:cNvPr id="332" name=""/>
          <p:cNvSpPr/>
          <p:nvPr/>
        </p:nvSpPr>
        <p:spPr>
          <a:xfrm>
            <a:off x="1907640" y="2209680"/>
            <a:ext cx="483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ладимир Николаевич Беклемише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767520" y="4876920"/>
            <a:ext cx="7832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ФУНКЦИОНАЛЬНО-ЭКОЛОГИЧЕСКИЙ АСПЕКТ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опуляция - единица взаимодействия видов в сообществ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биоценозе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86880" y="3048120"/>
            <a:ext cx="8532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Популяция - совокупность особей (и их групп), населяющи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определенную территорию и взаимодействующая с другим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такими совокупностями иных видов на этой территори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500"/>
                            </p:stCondLst>
                            <p:childTnLst>
                              <p:par>
                                <p:cTn id="4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99"/>
            </a:gs>
            <a:gs pos="100000">
              <a:srgbClr val="2f754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0" y="2668680"/>
            <a:ext cx="91440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3284640"/>
            <a:ext cx="914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2085840"/>
            <a:ext cx="914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045040" y="2184480"/>
            <a:ext cx="2011320" cy="639720"/>
          </a:xfrm>
          <a:prstGeom prst="rect">
            <a:avLst/>
          </a:prstGeom>
          <a:solidFill>
            <a:srgbClr val="33cccc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Окружающая сред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844640" y="2184480"/>
            <a:ext cx="2011320" cy="639720"/>
          </a:xfrm>
          <a:prstGeom prst="rect">
            <a:avLst/>
          </a:prstGeom>
          <a:solidFill>
            <a:srgbClr val="ff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Живая систем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855960" y="2363760"/>
            <a:ext cx="11890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3855600" y="2546280"/>
            <a:ext cx="11890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4862160" y="2852640"/>
            <a:ext cx="639720" cy="731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416640" y="2852640"/>
            <a:ext cx="457200" cy="731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221000" y="3586320"/>
            <a:ext cx="1371600" cy="457200"/>
          </a:xfrm>
          <a:prstGeom prst="rect">
            <a:avLst/>
          </a:prstGeom>
          <a:solidFill>
            <a:srgbClr val="ff99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Живая систем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141960" y="3586320"/>
            <a:ext cx="1371600" cy="457200"/>
          </a:xfrm>
          <a:prstGeom prst="rect">
            <a:avLst/>
          </a:prstGeom>
          <a:solidFill>
            <a:srgbClr val="00cc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Абиотическая систем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592600" y="3767040"/>
            <a:ext cx="549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5592600" y="3857760"/>
            <a:ext cx="549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2576160" y="4041720"/>
            <a:ext cx="155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2576520" y="2852280"/>
            <a:ext cx="0" cy="11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033720" y="285264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33720" y="3767040"/>
            <a:ext cx="1096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91320" y="40417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2027160" y="4498920"/>
            <a:ext cx="4664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2027160" y="2852280"/>
            <a:ext cx="0" cy="1646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666880" y="1676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666880" y="1676520"/>
            <a:ext cx="4664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31040" y="1676520"/>
            <a:ext cx="0" cy="192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" descr=""/>
          <p:cNvPicPr/>
          <p:nvPr/>
        </p:nvPicPr>
        <p:blipFill>
          <a:blip r:embed="rId2"/>
          <a:stretch/>
        </p:blipFill>
        <p:spPr>
          <a:xfrm>
            <a:off x="3200400" y="685800"/>
            <a:ext cx="2376360" cy="358128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2289600" y="4267080"/>
            <a:ext cx="404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танислав Семенович Швар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440" y="4876920"/>
            <a:ext cx="4443480" cy="15570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Шварц С.С.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Популяционна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структура вид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/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оологический журнал. - 1967. 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. 46, вып. 10.  - С. 1456-1469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123520" y="4876920"/>
            <a:ext cx="4016520" cy="15570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Шварц С.С.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Популяционна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структура биогеоценоз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//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звестия АН СССР -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971. - № 4. - С. 485-49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582360" y="228600"/>
            <a:ext cx="140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СИНТЕ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5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1386000" y="371520"/>
            <a:ext cx="6598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Группировки популяционного ранга - это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сложные систем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1" name="" descr=""/>
          <p:cNvPicPr/>
          <p:nvPr/>
        </p:nvPicPr>
        <p:blipFill>
          <a:blip r:embed="rId2"/>
          <a:stretch/>
        </p:blipFill>
        <p:spPr>
          <a:xfrm>
            <a:off x="3809880" y="2438280"/>
            <a:ext cx="2175120" cy="3048120"/>
          </a:xfrm>
          <a:prstGeom prst="rect">
            <a:avLst/>
          </a:prstGeom>
          <a:ln w="0">
            <a:noFill/>
          </a:ln>
        </p:spPr>
      </p:pic>
      <p:sp>
        <p:nvSpPr>
          <p:cNvPr id="342" name=""/>
          <p:cNvSpPr/>
          <p:nvPr/>
        </p:nvSpPr>
        <p:spPr>
          <a:xfrm>
            <a:off x="2900520" y="5867280"/>
            <a:ext cx="372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Николай Павлович Наум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135880" y="1523880"/>
            <a:ext cx="538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Они обладают структурированность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500"/>
                            </p:stCondLst>
                            <p:childTnLst>
                              <p:par>
                                <p:cTn id="4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348120" y="333360"/>
            <a:ext cx="86526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Главные интегральные характеристики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опуляций - это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численност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и численность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тнесенная к территории (акватории) -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плотност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614520" y="5181480"/>
            <a:ext cx="8259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оэтому понятие плотности популяции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тесно связано с одной из важных популяционных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структур -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пространственной структурой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65400" y="2209680"/>
            <a:ext cx="87746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опуляционной экологии различают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среднюю плотност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и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экологическую плотност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 Средняя плотность - это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численность, отнесенная к территории, включающую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и непригодные для обитания части, а экологическая -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тнесенная только к пригодным для обитания частям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территории, на которой обитает популяция. Последня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ожет быть «пятнистой», где пригодные места перемежаютс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 непригодным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304920" y="369720"/>
            <a:ext cx="883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Пространственная структура популяци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066320" y="838080"/>
            <a:ext cx="728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Три основных типа пространственной структуры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08760" y="1600200"/>
            <a:ext cx="802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1)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Равномерное распределение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реднее расстояние межд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собями (или точками, где нахождение особей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наиболее вероятно)мало изменчиво, т.е.почти одинаково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0" name=""/>
          <p:cNvGraphicFramePr/>
          <p:nvPr/>
        </p:nvGraphicFramePr>
        <p:xfrm>
          <a:off x="1219320" y="2895480"/>
          <a:ext cx="2286000" cy="2286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5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19320" y="2895480"/>
                    <a:ext cx="228600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2" name=""/>
          <p:cNvSpPr/>
          <p:nvPr/>
        </p:nvSpPr>
        <p:spPr>
          <a:xfrm>
            <a:off x="917640" y="5305320"/>
            <a:ext cx="7005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Ресурсы территории (акватории) используютс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интенсивно; территориальный антагонизм разви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в крайнем выражение - территориальное поведе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у животных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3" name=""/>
              <p:cNvSpPr txBox="1"/>
              <p:nvPr/>
            </p:nvSpPr>
            <p:spPr>
              <a:xfrm>
                <a:off x="4267080" y="3276720"/>
                <a:ext cx="3353040" cy="16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den>
                    </m:f>
                    <m:r>
                      <m:t xml:space="preserve">&l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310680" y="304920"/>
            <a:ext cx="888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Пространственная структура популяци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990360" y="838080"/>
            <a:ext cx="728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Три основных типа пространственной структуры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09960" y="1600200"/>
            <a:ext cx="7960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2)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Случайное распределение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реднее расстояние межд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собями (или точками, где нахождение особей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наиболее вероятно)довольно изменчиво и носит случайны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характер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7" name=""/>
          <p:cNvGraphicFramePr/>
          <p:nvPr/>
        </p:nvGraphicFramePr>
        <p:xfrm>
          <a:off x="990720" y="3124080"/>
          <a:ext cx="2819160" cy="2133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5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90720" y="3124080"/>
                    <a:ext cx="2819160" cy="213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59" name=""/>
              <p:cNvSpPr txBox="1"/>
              <p:nvPr/>
            </p:nvSpPr>
            <p:spPr>
              <a:xfrm>
                <a:off x="4191120" y="3276720"/>
                <a:ext cx="3276360" cy="182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den>
                    </m:f>
                    <m:r>
                      <m:t xml:space="preserve">≈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0" name=""/>
          <p:cNvSpPr/>
          <p:nvPr/>
        </p:nvSpPr>
        <p:spPr>
          <a:xfrm>
            <a:off x="842760" y="5410080"/>
            <a:ext cx="7788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Ресурсы территории (акватории) используютс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лучайным образом; территориальный антагонизм разви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лабо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/>
          <p:nvPr/>
        </p:nvSpPr>
        <p:spPr>
          <a:xfrm>
            <a:off x="310680" y="304920"/>
            <a:ext cx="888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Пространственная структура популяци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990360" y="838080"/>
            <a:ext cx="728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Три основных типа пространственной структуры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00880" y="1371600"/>
            <a:ext cx="8942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3)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Аггрегированное (групповое) распределение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редне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сстояние  между  особями (или точками, где нахождение особей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иболее вероятно) сильно изменчиво; оно либо велико, либо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ало. Особи собираются в групп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4" name=""/>
          <p:cNvGraphicFramePr/>
          <p:nvPr/>
        </p:nvGraphicFramePr>
        <p:xfrm>
          <a:off x="990720" y="3124080"/>
          <a:ext cx="2666880" cy="1828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6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90720" y="3124080"/>
                    <a:ext cx="266688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6" name=""/>
          <p:cNvSpPr/>
          <p:nvPr/>
        </p:nvSpPr>
        <p:spPr>
          <a:xfrm>
            <a:off x="842040" y="5410080"/>
            <a:ext cx="718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есурсы территории (акватории) используютс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кстенсивно; территориальный антагонизм не развит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корее наблюдается тенденция к скучиванию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7" name=""/>
              <p:cNvSpPr txBox="1"/>
              <p:nvPr/>
            </p:nvSpPr>
            <p:spPr>
              <a:xfrm>
                <a:off x="4191120" y="3124080"/>
                <a:ext cx="4190760" cy="193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den>
                    </m:f>
                    <m:r>
                      <m:t xml:space="preserve">&g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1066680" y="457200"/>
            <a:ext cx="2514600" cy="2971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69" name=""/>
          <p:cNvGraphicFramePr/>
          <p:nvPr/>
        </p:nvGraphicFramePr>
        <p:xfrm>
          <a:off x="228600" y="3525840"/>
          <a:ext cx="7391520" cy="2840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37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3525840"/>
                    <a:ext cx="7391520" cy="28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1" name=""/>
          <p:cNvGraphicFramePr/>
          <p:nvPr/>
        </p:nvGraphicFramePr>
        <p:xfrm>
          <a:off x="228600" y="3962520"/>
          <a:ext cx="8610480" cy="98892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37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" y="3962520"/>
                    <a:ext cx="8610480" cy="9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3" name=""/>
          <p:cNvGraphicFramePr/>
          <p:nvPr/>
        </p:nvGraphicFramePr>
        <p:xfrm>
          <a:off x="4572000" y="0"/>
          <a:ext cx="5029200" cy="342900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37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572000" y="0"/>
                    <a:ext cx="5029200" cy="342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5" name=""/>
          <p:cNvGraphicFramePr/>
          <p:nvPr/>
        </p:nvGraphicFramePr>
        <p:xfrm>
          <a:off x="4724280" y="3251160"/>
          <a:ext cx="4800600" cy="36068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37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724280" y="3251160"/>
                    <a:ext cx="4800600" cy="360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77" name=""/>
              <p:cNvSpPr txBox="1"/>
              <p:nvPr/>
            </p:nvSpPr>
            <p:spPr>
              <a:xfrm>
                <a:off x="838080" y="5334120"/>
                <a:ext cx="236232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N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r</m:t>
                    </m:r>
                    <m:r>
                      <m:t xml:space="preserve">⋅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/>
          <p:nvPr/>
        </p:nvSpPr>
        <p:spPr>
          <a:xfrm>
            <a:off x="152280" y="257184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52280" y="441972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Verhulst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P.-F. "Recherches mathematiques sur la loi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d'accroissement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de la population."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Nouv. mem. de l'Academie Royale des Sci. et Belles-Lettres de Bruxelles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18, 1-41, 184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0" name="" descr=""/>
          <p:cNvPicPr/>
          <p:nvPr/>
        </p:nvPicPr>
        <p:blipFill>
          <a:blip r:embed="rId2"/>
          <a:stretch/>
        </p:blipFill>
        <p:spPr>
          <a:xfrm>
            <a:off x="609480" y="304920"/>
            <a:ext cx="2800440" cy="3429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81" name=""/>
          <p:cNvGraphicFramePr/>
          <p:nvPr/>
        </p:nvGraphicFramePr>
        <p:xfrm>
          <a:off x="609480" y="3733920"/>
          <a:ext cx="5275440" cy="2030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3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9480" y="3733920"/>
                    <a:ext cx="5275440" cy="20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3" name=""/>
          <p:cNvGraphicFramePr/>
          <p:nvPr/>
        </p:nvGraphicFramePr>
        <p:xfrm>
          <a:off x="3962520" y="304920"/>
          <a:ext cx="5181480" cy="288108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38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962520" y="304920"/>
                    <a:ext cx="5181480" cy="28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85" name=""/>
              <p:cNvSpPr txBox="1"/>
              <p:nvPr/>
            </p:nvSpPr>
            <p:spPr>
              <a:xfrm>
                <a:off x="228600" y="5638680"/>
                <a:ext cx="411480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N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r</m:t>
                    </m:r>
                    <m:r>
                      <m:t xml:space="preserve">⋅</m:t>
                    </m:r>
                    <m:r>
                      <m:t xml:space="preserve">N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K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386" name=""/>
          <p:cNvGraphicFramePr/>
          <p:nvPr/>
        </p:nvGraphicFramePr>
        <p:xfrm>
          <a:off x="4343400" y="3429000"/>
          <a:ext cx="4267080" cy="297180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38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343400" y="3429000"/>
                    <a:ext cx="42670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9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4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" descr=""/>
          <p:cNvPicPr/>
          <p:nvPr/>
        </p:nvPicPr>
        <p:blipFill>
          <a:blip r:embed="rId2"/>
          <a:stretch/>
        </p:blipFill>
        <p:spPr>
          <a:xfrm>
            <a:off x="1143000" y="304920"/>
            <a:ext cx="2057400" cy="266688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228600" y="3048120"/>
            <a:ext cx="541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Александр Дмитриевич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Базыки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0" y="23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2514600" y="5334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3252960" y="2309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3" name="" descr=""/>
          <p:cNvPicPr/>
          <p:nvPr/>
        </p:nvPicPr>
        <p:blipFill>
          <a:blip r:embed="rId3"/>
          <a:stretch/>
        </p:blipFill>
        <p:spPr>
          <a:xfrm>
            <a:off x="1066680" y="3581280"/>
            <a:ext cx="1905120" cy="28195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94" name=""/>
              <p:cNvSpPr txBox="1"/>
              <p:nvPr/>
            </p:nvSpPr>
            <p:spPr>
              <a:xfrm>
                <a:off x="5562720" y="4876920"/>
                <a:ext cx="180324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N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r</m:t>
                        </m:r>
                        <m:r>
                          <m:t xml:space="preserve">⋅</m:t>
                        </m:r>
                        <m:r>
                          <m:t xml:space="preserve">N</m:t>
                        </m:r>
                        <m:r>
                          <m:t xml:space="preserve">⋅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395" name="" descr=""/>
          <p:cNvPicPr/>
          <p:nvPr/>
        </p:nvPicPr>
        <p:blipFill>
          <a:blip r:embed="rId4"/>
          <a:stretch/>
        </p:blipFill>
        <p:spPr>
          <a:xfrm>
            <a:off x="4191120" y="2209680"/>
            <a:ext cx="4495680" cy="2514600"/>
          </a:xfrm>
          <a:prstGeom prst="rect">
            <a:avLst/>
          </a:prstGeom>
          <a:ln w="0">
            <a:noFill/>
          </a:ln>
        </p:spPr>
      </p:pic>
      <p:sp>
        <p:nvSpPr>
          <p:cNvPr id="396" name=""/>
          <p:cNvSpPr/>
          <p:nvPr/>
        </p:nvSpPr>
        <p:spPr>
          <a:xfrm>
            <a:off x="3950280" y="574560"/>
            <a:ext cx="4397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Если учитывать и кооперацию 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нкуренцию, то проявитс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«эффект Олли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00936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Лекция 6. Популяционная демографи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Главные структуры, определяющие динамику численност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Экологические системы" descr=""/>
          <p:cNvPicPr/>
          <p:nvPr/>
        </p:nvPicPr>
        <p:blipFill>
          <a:blip r:embed="rId2"/>
          <a:stretch/>
        </p:blipFill>
        <p:spPr>
          <a:xfrm>
            <a:off x="3200400" y="1600200"/>
            <a:ext cx="5400720" cy="351468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5334120" y="914400"/>
            <a:ext cx="1828800" cy="495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209680" y="1143000"/>
            <a:ext cx="6934320" cy="1523880"/>
          </a:xfrm>
          <a:prstGeom prst="rect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449360" y="4267080"/>
            <a:ext cx="1613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утэкология 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экологическа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физиолог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86520" y="3581280"/>
            <a:ext cx="25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пуляционна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экология (демэкология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991440" y="2819520"/>
            <a:ext cx="216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зучение экосисте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(биогеоценология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15120" y="190512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Глобальная эколог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593360" y="117360"/>
            <a:ext cx="588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ИЕРАРХИЯ ЭКОЛОГИЧЕСКИХ СИСТЕ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880" y="5670720"/>
            <a:ext cx="8733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реда содержит все меньше биологических компонентов по мер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озрастания уровня организации (сред, особенно абиотическа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енее структурирована,  чем биосистем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765"/>
            </a:gs>
            <a:gs pos="100000">
              <a:srgbClr val="00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315720" y="1752480"/>
            <a:ext cx="88218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опуляционная демография - разде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опуляционной экологии, который изучае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основные популяционные структуры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определяющие  динамику численност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плотности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и главные характеристики, ее определяющи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Это - рождаемость (относительное количеств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новых особей за единицу времени), смертност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доля погибающих за единицу времени) и (в меньше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степени) эмиграция  и иммиграция - относительное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количество покинувших территорию и прибывших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нее за единицу времени соответственно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07440" y="254160"/>
            <a:ext cx="7585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Слово «демография» означает «описание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народонаселения» и происходит от греческих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корней </a:t>
            </a:r>
            <a:r>
              <a:rPr b="1" i="1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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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36e"/>
            </a:gs>
            <a:gs pos="100000">
              <a:srgbClr val="00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/>
          <p:nvPr/>
        </p:nvSpPr>
        <p:spPr>
          <a:xfrm>
            <a:off x="1907280" y="762120"/>
            <a:ext cx="500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Популяции структурирован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761400" y="4648320"/>
            <a:ext cx="8398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Разные поло-возрастные группы имеют разно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функциональное (в экологическом смысле) значени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режде всего, они вносят разный вклад в воспроизводств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населения. Поэтому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поло-возрастная структур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являетс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основной демографической структуро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352680" y="3124080"/>
            <a:ext cx="1295640" cy="533520"/>
          </a:xfrm>
          <a:prstGeom prst="rect">
            <a:avLst/>
          </a:prstGeom>
          <a:noFill/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 flipH="1">
            <a:off x="2590920" y="3429000"/>
            <a:ext cx="7617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648320" y="3352680"/>
            <a:ext cx="6094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257800" y="2895480"/>
            <a:ext cx="1066680" cy="8384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озрас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1600200" y="2971800"/>
            <a:ext cx="990720" cy="8380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о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3505320" y="3124080"/>
            <a:ext cx="91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соб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838080" y="1600200"/>
            <a:ext cx="666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Например, каждый индивидуум можно охарактеризовать полом и возрастом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500"/>
                            </p:stCondLst>
                            <p:childTnLst>
                              <p:par>
                                <p:cTn id="5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fill="hold">
                            <p:stCondLst>
                              <p:cond delay="1000"/>
                            </p:stCondLst>
                            <p:childTnLst>
                              <p:par>
                                <p:cTn id="5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1500"/>
                            </p:stCondLst>
                            <p:childTnLst>
                              <p:par>
                                <p:cTn id="5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2000"/>
                            </p:stCondLst>
                            <p:childTnLst>
                              <p:par>
                                <p:cTn id="5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fill="hold">
                            <p:stCondLst>
                              <p:cond delay="2500"/>
                            </p:stCondLst>
                            <p:childTnLst>
                              <p:par>
                                <p:cTn id="5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3000"/>
                            </p:stCondLst>
                            <p:childTnLst>
                              <p:par>
                                <p:cTn id="5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73"/>
            </a:gs>
            <a:gs pos="100000">
              <a:srgbClr val="00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/>
          <p:nvPr/>
        </p:nvSpPr>
        <p:spPr>
          <a:xfrm>
            <a:off x="231840" y="304920"/>
            <a:ext cx="88750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Основными демографическими параметрами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являются выживаемость (величина, дополнительная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к смертности) и рождаемость (среднее удельно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число новорожденных вычисляемые для каждого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возрастного класса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145080" y="2743200"/>
            <a:ext cx="871992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1)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ыживаемость 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) - это вероятность дожить  от рожд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о возраста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. Ясно, что для новорожденных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X=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0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ыживаемость равна единице (если особь появилась на свет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о она выжила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12480" y="4724280"/>
            <a:ext cx="872568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2)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ождаемость 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) - это среднее удельное число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оворожденных, приходящееся (за единицу времени) на одну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собь возраста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00936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/>
          <p:nvPr/>
        </p:nvSpPr>
        <p:spPr>
          <a:xfrm>
            <a:off x="685800" y="1143000"/>
            <a:ext cx="8458200" cy="49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Эти характеристики служат для построен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демографических таблиц, по параметрам которых можно рассчитать приспособленность ил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(чистую скорость размножения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жидаемую продолжительность жизни в возрасте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), показывающий, сколько еще осталось в среднем прожить, а также «репродуктивную ценность» 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озрасте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), показывающий, сколько в среднем принесет потомков особь этого возраста за оставшуюся жизнь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/>
          <p:nvPr/>
        </p:nvSpPr>
        <p:spPr>
          <a:xfrm>
            <a:off x="419760" y="0"/>
            <a:ext cx="8219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ля примера приведем таблицу для рыси 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ynx lynx)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70-е-80-е годы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X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в., когда наблюдался спад численност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этого хищника на Среднем Урал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380880" y="3505320"/>
          <a:ext cx="8458200" cy="3124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505320"/>
                    <a:ext cx="8458200" cy="31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17" name="" descr=""/>
          <p:cNvPicPr/>
          <p:nvPr/>
        </p:nvPicPr>
        <p:blipFill>
          <a:blip r:embed="rId3"/>
          <a:stretch/>
        </p:blipFill>
        <p:spPr>
          <a:xfrm>
            <a:off x="3429000" y="1219320"/>
            <a:ext cx="285768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9" dur="indefinite" restart="never" nodeType="tmRoot">
          <p:childTnLst>
            <p:seq>
              <p:cTn id="580" dur="indefinite" nodeType="mainSeq">
                <p:childTnLst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8" name=""/>
          <p:cNvGraphicFramePr/>
          <p:nvPr/>
        </p:nvGraphicFramePr>
        <p:xfrm>
          <a:off x="685800" y="838080"/>
          <a:ext cx="7772400" cy="5181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7772400" cy="518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0" name=""/>
          <p:cNvGraphicFramePr/>
          <p:nvPr/>
        </p:nvGraphicFramePr>
        <p:xfrm>
          <a:off x="533520" y="609480"/>
          <a:ext cx="8229600" cy="5562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609480"/>
                    <a:ext cx="8229600" cy="556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2" name=""/>
          <p:cNvGraphicFramePr/>
          <p:nvPr/>
        </p:nvGraphicFramePr>
        <p:xfrm>
          <a:off x="457200" y="838080"/>
          <a:ext cx="8229600" cy="502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838080"/>
                    <a:ext cx="822960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4" name=""/>
          <p:cNvGraphicFramePr/>
          <p:nvPr/>
        </p:nvGraphicFramePr>
        <p:xfrm>
          <a:off x="685800" y="838080"/>
          <a:ext cx="8077320" cy="502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807732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/>
          <p:nvPr/>
        </p:nvSpPr>
        <p:spPr>
          <a:xfrm>
            <a:off x="533160" y="838080"/>
            <a:ext cx="81237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Чистая скорость размножения связана с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мальтузианским параметром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, а все параметры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связывает  так называемое основное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демографическое уравнение  Эйлера-Лотки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7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8" name=""/>
              <p:cNvSpPr txBox="1"/>
              <p:nvPr/>
            </p:nvSpPr>
            <p:spPr>
              <a:xfrm>
                <a:off x="1143000" y="3581280"/>
                <a:ext cx="6629400" cy="175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X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e>
                    </m:nary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r</m:t>
                        </m:r>
                        <m:r>
                          <m:t xml:space="preserve">⋅</m:t>
                        </m:r>
                        <m:r>
                          <m:t xml:space="preserve">X</m:t>
                        </m:r>
                      </m:sup>
                    </m:sSup>
                    <m:r>
                      <m:t xml:space="preserve">⋅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990720" y="2819520"/>
            <a:ext cx="1981080" cy="6094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581280" y="5715000"/>
            <a:ext cx="1981440" cy="6094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581280" y="4191120"/>
            <a:ext cx="1981440" cy="6094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943600" y="2743200"/>
            <a:ext cx="1981080" cy="609480"/>
          </a:xfrm>
          <a:prstGeom prst="rect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752480" y="609480"/>
            <a:ext cx="5715000" cy="11430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721320" y="5756400"/>
            <a:ext cx="178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индивидуу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735720" y="4267080"/>
            <a:ext cx="157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опуляц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4648320" y="480060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28954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ообществ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631920" y="2743200"/>
            <a:ext cx="64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и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H="1" flipV="1">
            <a:off x="2971440" y="3428640"/>
            <a:ext cx="609480" cy="762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5562720" y="3352320"/>
            <a:ext cx="76176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1981080" y="1752480"/>
            <a:ext cx="0" cy="990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6934320" y="1752480"/>
            <a:ext cx="0" cy="990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735360" y="914400"/>
            <a:ext cx="181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Биота Земл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526760" y="0"/>
            <a:ext cx="614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ва разбиения биоты - два масштаба времен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30760" y="3581280"/>
            <a:ext cx="2644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Экологическ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функциональный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масшта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531840" y="3429000"/>
            <a:ext cx="261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Эволюционны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систематический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масшта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500"/>
                            </p:stCondLst>
                            <p:childTnLst>
                              <p:par>
                                <p:cTn id="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500"/>
                            </p:stCondLst>
                            <p:childTnLst>
                              <p:par>
                                <p:cTn id="1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500"/>
                            </p:stCondLst>
                            <p:childTnLst>
                              <p:par>
                                <p:cTn id="1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388360" cy="4876920"/>
          </a:xfrm>
          <a:prstGeom prst="rect">
            <a:avLst/>
          </a:prstGeom>
          <a:ln w="0">
            <a:noFill/>
          </a:ln>
        </p:spPr>
      </p:pic>
      <p:sp>
        <p:nvSpPr>
          <p:cNvPr id="430" name=""/>
          <p:cNvSpPr/>
          <p:nvPr/>
        </p:nvSpPr>
        <p:spPr>
          <a:xfrm>
            <a:off x="388440" y="0"/>
            <a:ext cx="8806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дной и той же приспособленности можно достичь, либ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интенсивно размножаясь, но имея большую смертность, либо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«вкладывать» в доведение всего (немногочисленного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отомства до репродуктивного возраст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5" dur="indefinite" restart="never" nodeType="tmRoot">
          <p:childTnLst>
            <p:seq>
              <p:cTn id="596" dur="indefinite" nodeType="mainSeq">
                <p:childTnLst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Лекция 7. Видовая структура человек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subTitle"/>
          </p:nvPr>
        </p:nvSpPr>
        <p:spPr>
          <a:xfrm>
            <a:off x="1219320" y="3580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3366"/>
                </a:solidFill>
                <a:latin typeface="Times New Roman"/>
              </a:rPr>
              <a:t>Чем надорганизменные системы человека сходны и в чем различаются с популяционными системами других видов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"/>
          <p:cNvSpPr/>
          <p:nvPr/>
        </p:nvSpPr>
        <p:spPr>
          <a:xfrm>
            <a:off x="538200" y="304920"/>
            <a:ext cx="80323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 истории человечества 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взаимодействия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(не всегд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ложительные - кооперация, но и не всегд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трицательные - конкуренция) 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являются одной из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основ формирования обществ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, порождающих культуру -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сновную причину высокой приспособленност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людей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и этом 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генетическая изоляция утрачивае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свою роль как основной движущей силы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азвития (как у других видов). Поэтому 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расовая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генетическая составляющая не есть главное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в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хорологическом 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структурировании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вида </a:t>
            </a: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Homo sapien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689760" y="3962520"/>
            <a:ext cx="82105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В какой-то мере можно сказать, что функциональный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экологический аспект структуризации вида здесь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выходит на первый план. </a:t>
            </a: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Взаимодействуют не тольк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индивидуумы и их группы, но подразделения вида, которы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в некоторой степени аналогичны популяциям, но гд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рекомбинации (перемешивание генетического материала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гораздо сильнее выражен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1" dur="indefinite" restart="never" nodeType="tmRoot">
          <p:childTnLst>
            <p:seq>
              <p:cTn id="602" dur="indefinite" nodeType="mainSeq">
                <p:childTnLst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1828800" cy="2362320"/>
          </a:xfrm>
          <a:prstGeom prst="rect">
            <a:avLst/>
          </a:prstGeom>
          <a:ln w="0">
            <a:noFill/>
          </a:ln>
        </p:spPr>
      </p:pic>
      <p:sp>
        <p:nvSpPr>
          <p:cNvPr id="436" name=""/>
          <p:cNvSpPr/>
          <p:nvPr/>
        </p:nvSpPr>
        <p:spPr>
          <a:xfrm>
            <a:off x="235800" y="304920"/>
            <a:ext cx="8140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Л.Н. Гумилев (выдающийся отечественный историк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дал определение единице структуризации человечеств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н показал, что системой структуризации, аналогичной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но  не абсолютно тождественно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ей являетс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ЭТНО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59360" y="4952880"/>
            <a:ext cx="230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Лев Николаеви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Гумиле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743200" y="2590920"/>
            <a:ext cx="64008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Этнос - это форма существования вида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omo sapiens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которая, хоть и сильно отличается от популяци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других видов, являются, как и они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(1) формой существования вида 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(2)единицей взаимодействия со средой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</a:rPr>
              <a:t>Этническая дифференциация не тождественна расовой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</a:rPr>
              <a:t>лингвистической (языковой), географической и даж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</a:rPr>
              <a:t>всем им вместе взятым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7" dur="indefinite" restart="never" nodeType="tmRoot">
          <p:childTnLst>
            <p:seq>
              <p:cTn id="608" dur="indefinite" nodeType="mainSeq">
                <p:childTnLst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fill="hold">
                            <p:stCondLst>
                              <p:cond delay="500"/>
                            </p:stCondLst>
                            <p:childTnLst>
                              <p:par>
                                <p:cTn id="6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/>
          <p:nvPr/>
        </p:nvSpPr>
        <p:spPr>
          <a:xfrm>
            <a:off x="914400" y="304920"/>
            <a:ext cx="7620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 своей книге «Этногенез 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биосфера Земли» он попытался дать естественнонаучную картину развит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этнических систем, связанную с изменением частоты носителей наследуемого признака, который он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пределил как ПАССИОНАРНОСТЬ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82320" y="2971800"/>
            <a:ext cx="84376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 теории Л.Н. Гумилева, люди делятся 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ри основных наследуемых поведенческих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ип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1)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ассионарии - те, чьи усилия направлены на осуществле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акой-то цели, а не на поддержание собственного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лагополучи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2) гармонарии - тип активного обывателя, которые деляют то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что от них требуется, не забывая о себе и о потомств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3) субпассионарии - живущие сегодняшним днем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 заботящиеся о будущем и не стремящиеся к какой-то цел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0" dur="indefinite" restart="never" nodeType="tmRoot">
          <p:childTnLst>
            <p:seq>
              <p:cTn id="621" dur="indefinite" nodeType="mainSeq">
                <p:childTnLst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" descr=""/>
          <p:cNvPicPr/>
          <p:nvPr/>
        </p:nvPicPr>
        <p:blipFill>
          <a:blip r:embed="rId1"/>
          <a:stretch/>
        </p:blipFill>
        <p:spPr>
          <a:xfrm>
            <a:off x="1676520" y="2819520"/>
            <a:ext cx="6705360" cy="3809880"/>
          </a:xfrm>
          <a:prstGeom prst="rect">
            <a:avLst/>
          </a:prstGeom>
          <a:ln w="0">
            <a:noFill/>
          </a:ln>
        </p:spPr>
      </p:pic>
      <p:sp>
        <p:nvSpPr>
          <p:cNvPr id="442" name=""/>
          <p:cNvSpPr/>
          <p:nvPr/>
        </p:nvSpPr>
        <p:spPr>
          <a:xfrm>
            <a:off x="6480" y="0"/>
            <a:ext cx="87991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 Л.Н. Гумилеву, частота пассионариев по мере протека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циклов этногенеза изменяется: после «пассионарного толчка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 последующего подьема наступает стабилизация, зате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«надлом», инерционная фаза, «обскурация» и, наконец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«гомеостаз». Пассионарность сначала возрастает, потом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ачинает убывать, и на фазах обскурации и гомеостаз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увеличивается число субпассионарие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6" dur="indefinite" restart="never" nodeType="tmRoot">
          <p:childTnLst>
            <p:seq>
              <p:cTn id="627" dur="indefinite" nodeType="mainSeq">
                <p:childTnLst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3" name=""/>
          <p:cNvGraphicFramePr/>
          <p:nvPr/>
        </p:nvGraphicFramePr>
        <p:xfrm>
          <a:off x="5791320" y="1295280"/>
          <a:ext cx="3047760" cy="525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91320" y="1295280"/>
                    <a:ext cx="304776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5" name=""/>
          <p:cNvSpPr/>
          <p:nvPr/>
        </p:nvSpPr>
        <p:spPr>
          <a:xfrm>
            <a:off x="5564880" y="1447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7545600" y="6172200"/>
            <a:ext cx="94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рем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6021360" y="5257800"/>
            <a:ext cx="203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реоблада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толерантны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6400800" y="1523880"/>
            <a:ext cx="2221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реоблада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агрессивных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расселяющихс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92760" y="228600"/>
            <a:ext cx="875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Гипотеза Д. Читти (1960) о поведенческом полиморфизме ка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еханизме популяционных циклов у мелких млекопитающи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04920" y="1066680"/>
            <a:ext cx="556236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огласно этой гипотезе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ыгравшей ключевую рол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 популяционно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экологии, циклическая динамика популяций связана со сменой соотношения двух наследственных поведенческих типов. «Толерантные» особи имеют малую подвижность, но высокую плодовитость, что приводи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к росту численности. Однако они чувствительны к  повышению числа «агрессивных», склонных к расселению.  Агрессивные» менее плодовиты, и их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реобладание приводит к снижению численности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/>
          <p:nvPr/>
        </p:nvSpPr>
        <p:spPr>
          <a:xfrm>
            <a:off x="744480" y="422280"/>
            <a:ext cx="797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ОНЯТИЕ АНТРОПОГЕОЦЕНОЗА (В.П. АЛЕКСЕЕВ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2" name=""/>
          <p:cNvGraphicFramePr/>
          <p:nvPr/>
        </p:nvGraphicFramePr>
        <p:xfrm>
          <a:off x="838080" y="4114800"/>
          <a:ext cx="8001000" cy="229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4114800"/>
                    <a:ext cx="8001000" cy="22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4" name=""/>
          <p:cNvSpPr/>
          <p:nvPr/>
        </p:nvSpPr>
        <p:spPr>
          <a:xfrm>
            <a:off x="1145880" y="4495680"/>
            <a:ext cx="2149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хозяйственны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коллекти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5943960" y="4572000"/>
            <a:ext cx="2404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эксплуатируема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территор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475200" y="838080"/>
            <a:ext cx="8696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нтрополог В.П. Алексеев определял как антропогеоцено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ак систему, построенную на взаимодействии двух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дсистем.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В терминах экологии это- экологическая систем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биогеоценотического уровн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766080" y="2362320"/>
            <a:ext cx="7718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Более того, понятие «хозяйственный коллектив» близко 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онятию элементарной этнической группировки, 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онятие «эксплуатируемая территория» - к поняти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«вмещающий ландшафт» Л.Н. Гумилева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2" dur="indefinite" restart="never" nodeType="tmRoot">
          <p:childTnLst>
            <p:seq>
              <p:cTn id="633" dur="indefinite" nodeType="mainSeq">
                <p:childTnLst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fill="hold">
                            <p:stCondLst>
                              <p:cond delay="500"/>
                            </p:stCondLst>
                            <p:childTnLst>
                              <p:par>
                                <p:cTn id="6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fill="hold">
                            <p:stCondLst>
                              <p:cond delay="1000"/>
                            </p:stCondLst>
                            <p:childTnLst>
                              <p:par>
                                <p:cTn id="6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762120" y="609480"/>
            <a:ext cx="76485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Хозяйственный коллектив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по В.П. Алексееву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структурирован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по функциям, связанным с взаимоотношениями с эксплуатируемой территорией (по разделению труда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В «традиционных» обществах это разделение в определенной степени совпадает 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поло-возрастным составом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13080" y="4267080"/>
            <a:ext cx="7822080" cy="21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Таким образом, главными характеристиками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коллектива по В.П. Алексееву выступают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численность и функциональная структура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, т.е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показатели, аналогичные главным экологическим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характеристикам популяци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8" dur="indefinite" restart="never" nodeType="tmRoot">
          <p:childTnLst>
            <p:seq>
              <p:cTn id="649" dur="indefinite" nodeType="mainSeq">
                <p:childTnLst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"/>
          <p:cNvSpPr/>
          <p:nvPr/>
        </p:nvSpPr>
        <p:spPr>
          <a:xfrm>
            <a:off x="235080" y="0"/>
            <a:ext cx="8610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бщая тенденция развития антропогеоценозов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остоит в переходе от первого (более примитивного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типа ко второму (более совершенному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536040" y="1523880"/>
            <a:ext cx="8349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Первый тип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это когда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хозяйственный коллектив усил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тратит на сбор того, что эксплуатируемая территори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производит сама по себ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это племена охотников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обирателей и рыболовов,  которые по другой классификаци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этнологов представляют собой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определенный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культурно-хозяйственный тип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87960" y="3886200"/>
            <a:ext cx="8576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Второй тип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это племена скотоводов и земледельцев, гд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хозяйственный коллектив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усилия вкладывает не в сбо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того, что производит эксплуатируемая территория без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сяких усилий с его стороны, а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больше забоится о создан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условий, повышающих продуктивность этой территории, 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также условия получения продукци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4" dur="indefinite" restart="never" nodeType="tmRoot">
          <p:childTnLst>
            <p:seq>
              <p:cTn id="655" dur="indefinite" nodeType="mainSeq">
                <p:childTnLst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4081a1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ЧТО ТАКОЕ ЭКОЛОГИЯ ЧЕЛОВЕКА? РАЗНЫЕ ПОДХОД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lvl="2" marL="1040040" indent="-207720">
              <a:lnSpc>
                <a:spcPct val="100000"/>
              </a:lnSpc>
              <a:spcBef>
                <a:spcPts val="1100"/>
              </a:spcBef>
              <a:spcAft>
                <a:spcPts val="1100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Наиболее известный и понятный на уровне обыденного мышления подход восходит к первоначальному определению экологии Э. Геккел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Согласно нему принимаются во внимание чисто биологические характеристики человека, а проблематика экологии человека занимается в основном медико-физиологическими проблемами воздействия факторов среды на здоровье людей. Однако с точки зрения современной экологии такой подход архаичен, являясь чисто аутэкологическим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/>
          <p:nvPr/>
        </p:nvSpPr>
        <p:spPr>
          <a:xfrm>
            <a:off x="229320" y="0"/>
            <a:ext cx="84103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трудно заметить, что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тенденция развития этих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экологических систем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(антропогеоценозов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о-первых,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повторяет тенденции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характерные для неолитической (сельскохозяйственной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глобальной революци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а во вторых,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соответствую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отношениям , возникающих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по Л.Н. Гумилеву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в процессе этногенез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: возрастание уровня пассионарности 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тадии подъема сопровождается либо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активным создание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«антропогенной, искусственной» среды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либо стремление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 освоению новых «вмещающих ландшафтов»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524520" y="3706920"/>
            <a:ext cx="736956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роме того, мы отметили много сходства (но и коренных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тличий) с процессами, происходящими на популяционно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уровне организаций других видов. Это, также как то, чт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бсуждавшиеся теоретические воззрения принадлежат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гуманитариям, а отнюдь не популяционным эколагам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зволяет считать, что методы популяционной экологии и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установленные ей закономерности небесполезно «примерить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и к описанию процессов, происходящих в надорганизменных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истемах человек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4" dur="indefinite" restart="never" nodeType="tmRoot">
          <p:childTnLst>
            <p:seq>
              <p:cTn id="665" dur="indefinite" nodeType="mainSeq">
                <p:childTnLst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Лекция 8. Динамика численности человечеств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Демографический взрыв и демографический перехо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7" name="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815364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8" name="" descr=""/>
          <p:cNvPicPr/>
          <p:nvPr/>
        </p:nvPicPr>
        <p:blipFill>
          <a:blip r:embed="rId1"/>
          <a:stretch/>
        </p:blipFill>
        <p:spPr>
          <a:xfrm>
            <a:off x="76320" y="76320"/>
            <a:ext cx="8915400" cy="67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9" name="" descr=""/>
          <p:cNvPicPr/>
          <p:nvPr/>
        </p:nvPicPr>
        <p:blipFill>
          <a:blip r:embed="rId1"/>
          <a:stretch/>
        </p:blipFill>
        <p:spPr>
          <a:xfrm>
            <a:off x="762120" y="609480"/>
            <a:ext cx="78483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0" name="" descr=""/>
          <p:cNvPicPr/>
          <p:nvPr/>
        </p:nvPicPr>
        <p:blipFill>
          <a:blip r:embed="rId1"/>
          <a:stretch/>
        </p:blipFill>
        <p:spPr>
          <a:xfrm>
            <a:off x="1066680" y="609480"/>
            <a:ext cx="716292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Моделирование роста человечеств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0" y="2971800"/>
            <a:ext cx="2743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Серге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Петрович Капиц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3" name="" descr=""/>
          <p:cNvPicPr/>
          <p:nvPr/>
        </p:nvPicPr>
        <p:blipFill>
          <a:blip r:embed="rId1"/>
          <a:stretch/>
        </p:blipFill>
        <p:spPr>
          <a:xfrm>
            <a:off x="380880" y="990720"/>
            <a:ext cx="1828800" cy="1981080"/>
          </a:xfrm>
          <a:prstGeom prst="rect">
            <a:avLst/>
          </a:prstGeom>
          <a:ln w="0">
            <a:noFill/>
          </a:ln>
        </p:spPr>
      </p:pic>
      <p:pic>
        <p:nvPicPr>
          <p:cNvPr id="474" name="" descr=""/>
          <p:cNvPicPr/>
          <p:nvPr/>
        </p:nvPicPr>
        <p:blipFill>
          <a:blip r:embed="rId2"/>
          <a:stretch/>
        </p:blipFill>
        <p:spPr>
          <a:xfrm>
            <a:off x="2514600" y="990720"/>
            <a:ext cx="1960560" cy="2514600"/>
          </a:xfrm>
          <a:prstGeom prst="rect">
            <a:avLst/>
          </a:prstGeom>
          <a:ln w="0">
            <a:noFill/>
          </a:ln>
        </p:spPr>
      </p:pic>
      <p:pic>
        <p:nvPicPr>
          <p:cNvPr id="475" name="" descr=""/>
          <p:cNvPicPr/>
          <p:nvPr/>
        </p:nvPicPr>
        <p:blipFill>
          <a:blip r:embed="rId3"/>
          <a:stretch/>
        </p:blipFill>
        <p:spPr>
          <a:xfrm>
            <a:off x="5029200" y="990720"/>
            <a:ext cx="3886200" cy="2541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76" name=""/>
          <p:cNvGraphicFramePr/>
          <p:nvPr/>
        </p:nvGraphicFramePr>
        <p:xfrm>
          <a:off x="2209680" y="3962520"/>
          <a:ext cx="4724640" cy="228600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7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209680" y="3962520"/>
                    <a:ext cx="472464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0" dur="indefinite" restart="never" nodeType="tmRoot">
          <p:childTnLst>
            <p:seq>
              <p:cTn id="671" dur="indefinite" nodeType="mainSeq">
                <p:childTnLst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8" name="" descr=""/>
          <p:cNvPicPr/>
          <p:nvPr/>
        </p:nvPicPr>
        <p:blipFill>
          <a:blip r:embed="rId1"/>
          <a:stretch/>
        </p:blipFill>
        <p:spPr>
          <a:xfrm>
            <a:off x="1066680" y="457200"/>
            <a:ext cx="2514600" cy="2971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79" name=""/>
          <p:cNvGraphicFramePr/>
          <p:nvPr/>
        </p:nvGraphicFramePr>
        <p:xfrm>
          <a:off x="228600" y="3525840"/>
          <a:ext cx="7391520" cy="2840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48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3525840"/>
                    <a:ext cx="7391520" cy="28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1" name=""/>
          <p:cNvGraphicFramePr/>
          <p:nvPr/>
        </p:nvGraphicFramePr>
        <p:xfrm>
          <a:off x="228600" y="3962520"/>
          <a:ext cx="8610480" cy="98892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8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28600" y="3962520"/>
                    <a:ext cx="8610480" cy="9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3" name=""/>
          <p:cNvGraphicFramePr/>
          <p:nvPr/>
        </p:nvGraphicFramePr>
        <p:xfrm>
          <a:off x="4572000" y="0"/>
          <a:ext cx="5029200" cy="342900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48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572000" y="0"/>
                    <a:ext cx="5029200" cy="342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5" name=""/>
          <p:cNvGraphicFramePr/>
          <p:nvPr/>
        </p:nvGraphicFramePr>
        <p:xfrm>
          <a:off x="4724280" y="3251160"/>
          <a:ext cx="4800600" cy="3606840"/>
        </p:xfrm>
        <a:graphic>
          <a:graphicData uri="http://schemas.openxmlformats.org/presentationml/2006/ole">
            <p:oleObj progId="Excel.Sheet.12" r:id="rId8" spid="">
              <p:embed/>
              <p:pic>
                <p:nvPicPr>
                  <p:cNvPr id="48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724280" y="3251160"/>
                    <a:ext cx="4800600" cy="360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487" name=""/>
              <p:cNvSpPr txBox="1"/>
              <p:nvPr/>
            </p:nvSpPr>
            <p:spPr>
              <a:xfrm>
                <a:off x="838080" y="5334120"/>
                <a:ext cx="236232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N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r</m:t>
                    </m:r>
                    <m:r>
                      <m:t xml:space="preserve">⋅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0" dur="indefinite" restart="never" nodeType="tmRoot">
          <p:childTnLst>
            <p:seq>
              <p:cTn id="691" dur="indefinite" nodeType="mainSeq">
                <p:childTnLst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"/>
          <p:cNvSpPr/>
          <p:nvPr/>
        </p:nvSpPr>
        <p:spPr>
          <a:xfrm>
            <a:off x="380880" y="257184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380880" y="441972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Verhulst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P.-F. "Recherches mathematiques sur la loi d'accroissement de la population."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Nouv. mem. de l'Academie Royale des Sci. et Belles-Lettres de Bruxelles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18, 1-41, 184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0" name="" descr=""/>
          <p:cNvPicPr/>
          <p:nvPr/>
        </p:nvPicPr>
        <p:blipFill>
          <a:blip r:embed="rId1"/>
          <a:stretch/>
        </p:blipFill>
        <p:spPr>
          <a:xfrm>
            <a:off x="838080" y="304920"/>
            <a:ext cx="2800440" cy="3429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91" name=""/>
          <p:cNvGraphicFramePr/>
          <p:nvPr/>
        </p:nvGraphicFramePr>
        <p:xfrm>
          <a:off x="838080" y="3733920"/>
          <a:ext cx="5275440" cy="2030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49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38080" y="3733920"/>
                    <a:ext cx="5275440" cy="20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3" name=""/>
          <p:cNvGraphicFramePr/>
          <p:nvPr/>
        </p:nvGraphicFramePr>
        <p:xfrm>
          <a:off x="4191120" y="304920"/>
          <a:ext cx="5181480" cy="288108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9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191120" y="304920"/>
                    <a:ext cx="5181480" cy="28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495" name=""/>
              <p:cNvSpPr txBox="1"/>
              <p:nvPr/>
            </p:nvSpPr>
            <p:spPr>
              <a:xfrm>
                <a:off x="457200" y="5638680"/>
                <a:ext cx="411480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N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r</m:t>
                    </m:r>
                    <m:r>
                      <m:t xml:space="preserve">⋅</m:t>
                    </m:r>
                    <m:r>
                      <m:t xml:space="preserve">N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K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496" name=""/>
          <p:cNvGraphicFramePr/>
          <p:nvPr/>
        </p:nvGraphicFramePr>
        <p:xfrm>
          <a:off x="4572000" y="3429000"/>
          <a:ext cx="4267080" cy="297180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497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572000" y="3429000"/>
                    <a:ext cx="42670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2" dur="indefinite" restart="never" nodeType="tmRoot">
          <p:childTnLst>
            <p:seq>
              <p:cTn id="713" dur="indefinite" nodeType="mainSeq">
                <p:childTnLst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6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1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«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Демографический взрыв» и «демографический переход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 txBox="1"/>
          <p:nvPr/>
        </p:nvSpPr>
        <p:spPr>
          <a:xfrm>
            <a:off x="4647960" y="2666520"/>
            <a:ext cx="426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Рост численности человечества носил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гиперболический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 характер, особенно после «промышленной революции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 txBox="1"/>
          <p:nvPr/>
        </p:nvSpPr>
        <p:spPr>
          <a:xfrm>
            <a:off x="685440" y="5333760"/>
            <a:ext cx="380988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еннис Медоу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 txBox="1"/>
          <p:nvPr/>
        </p:nvSpPr>
        <p:spPr>
          <a:xfrm>
            <a:off x="4647960" y="3809880"/>
            <a:ext cx="41907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Одновременно (особенно в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последнее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 время) наблюдается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«демографический переход»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 (более заметный в «развитых странах»- некоторое снижение темпов роста одновременно с постарением населения из-за синхронного снижения и рождаемости и смертности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2" name="" descr=""/>
          <p:cNvPicPr/>
          <p:nvPr/>
        </p:nvPicPr>
        <p:blipFill>
          <a:blip r:embed="rId1"/>
          <a:stretch/>
        </p:blipFill>
        <p:spPr>
          <a:xfrm>
            <a:off x="1371600" y="1981080"/>
            <a:ext cx="2362320" cy="3276720"/>
          </a:xfrm>
          <a:prstGeom prst="rect">
            <a:avLst/>
          </a:prstGeom>
          <a:ln w="0">
            <a:noFill/>
          </a:ln>
        </p:spPr>
      </p:pic>
      <p:pic>
        <p:nvPicPr>
          <p:cNvPr id="503" name="" descr=""/>
          <p:cNvPicPr/>
          <p:nvPr/>
        </p:nvPicPr>
        <p:blipFill>
          <a:blip r:embed="rId2"/>
          <a:stretch/>
        </p:blipFill>
        <p:spPr>
          <a:xfrm>
            <a:off x="4343400" y="2057400"/>
            <a:ext cx="457200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2" dur="indefinite" restart="never" nodeType="tmRoot">
          <p:childTnLst>
            <p:seq>
              <p:cTn id="733" dur="indefinite" nodeType="mainSeq">
                <p:childTnLst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7b7b9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533520" y="380880"/>
            <a:ext cx="76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ЧТО ТАКОЕ ЭКОЛОГИЯ ЧЕЛОВЕКА? РАЗНЫЕ ПОДХОД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99520" y="1828800"/>
            <a:ext cx="8841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Второй подход, трактует экологию человека чрезвычайн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широко, как конгломерат естественных и гуманитарны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дисциплин, в котором к научному знанию примешиваетс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определенное мировоззрение и даже деятельность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направленная на улучшение взаимоотношений природы 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обществ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Этот подход распространен в Западной Европе 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частично в Северной Америке. При таком понимании теряетс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редмет и методы, что является необходимыми характеристикам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научной дисциплин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387a9"/>
            </a:gs>
            <a:gs pos="100000">
              <a:srgbClr val="66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Лекция 9. Современный этап: достоинства и вызов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«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Демографический переход» - признак стабилизации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6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0400" cy="57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7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0400" cy="57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Уровень жизни и рождаемост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9" name="" descr=""/>
          <p:cNvPicPr/>
          <p:nvPr/>
        </p:nvPicPr>
        <p:blipFill>
          <a:blip r:embed="rId1"/>
          <a:stretch/>
        </p:blipFill>
        <p:spPr>
          <a:xfrm>
            <a:off x="685800" y="2100240"/>
            <a:ext cx="776304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0" name="" descr=""/>
          <p:cNvPicPr/>
          <p:nvPr/>
        </p:nvPicPr>
        <p:blipFill>
          <a:blip r:embed="rId1"/>
          <a:stretch/>
        </p:blipFill>
        <p:spPr>
          <a:xfrm>
            <a:off x="380880" y="571680"/>
            <a:ext cx="8382240" cy="59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1" name="" descr=""/>
          <p:cNvPicPr/>
          <p:nvPr/>
        </p:nvPicPr>
        <p:blipFill>
          <a:blip r:embed="rId1"/>
          <a:stretch/>
        </p:blipFill>
        <p:spPr>
          <a:xfrm>
            <a:off x="2438280" y="914400"/>
            <a:ext cx="6150240" cy="2895480"/>
          </a:xfrm>
          <a:prstGeom prst="rect">
            <a:avLst/>
          </a:prstGeom>
          <a:ln w="0">
            <a:noFill/>
          </a:ln>
        </p:spPr>
      </p:pic>
      <p:sp>
        <p:nvSpPr>
          <p:cNvPr id="512" name=""/>
          <p:cNvSpPr/>
          <p:nvPr/>
        </p:nvSpPr>
        <p:spPr>
          <a:xfrm>
            <a:off x="609480" y="4191120"/>
            <a:ext cx="949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Незаметное сначала истощение медленно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озобновляющихся ресурс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с повышением их относительного потребления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должно смениться резким падением их доступного количеств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1584360" y="228600"/>
            <a:ext cx="686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Истощение ресурсов - возможная причина спад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4" name="" descr=""/>
          <p:cNvPicPr/>
          <p:nvPr/>
        </p:nvPicPr>
        <p:blipFill>
          <a:blip r:embed="rId2"/>
          <a:stretch/>
        </p:blipFill>
        <p:spPr>
          <a:xfrm>
            <a:off x="380880" y="1143000"/>
            <a:ext cx="186696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2" dur="indefinite" restart="never" nodeType="tmRoot">
          <p:childTnLst>
            <p:seq>
              <p:cTn id="753" dur="indefinite" nodeType="mainSeq">
                <p:childTnLst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58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9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5" name="" descr=""/>
          <p:cNvPicPr/>
          <p:nvPr/>
        </p:nvPicPr>
        <p:blipFill>
          <a:blip r:embed="rId1"/>
          <a:stretch/>
        </p:blipFill>
        <p:spPr>
          <a:xfrm>
            <a:off x="914400" y="1066680"/>
            <a:ext cx="3962520" cy="2659320"/>
          </a:xfrm>
          <a:prstGeom prst="rect">
            <a:avLst/>
          </a:prstGeom>
          <a:ln w="0">
            <a:noFill/>
          </a:ln>
        </p:spPr>
      </p:pic>
      <p:sp>
        <p:nvSpPr>
          <p:cNvPr id="516" name=""/>
          <p:cNvSpPr/>
          <p:nvPr/>
        </p:nvSpPr>
        <p:spPr>
          <a:xfrm>
            <a:off x="914400" y="6172200"/>
            <a:ext cx="3429000" cy="4597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N = rN(1-N/K)</a:t>
            </a:r>
            <a:r>
              <a:rPr b="1" i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2133720" y="3824280"/>
            <a:ext cx="259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Роберт Мэ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8" name=""/>
          <p:cNvGraphicFramePr/>
          <p:nvPr/>
        </p:nvGraphicFramePr>
        <p:xfrm>
          <a:off x="7086600" y="5791320"/>
          <a:ext cx="1600200" cy="761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1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086600" y="5791320"/>
                    <a:ext cx="160020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0" name=""/>
          <p:cNvGraphicFramePr/>
          <p:nvPr/>
        </p:nvGraphicFramePr>
        <p:xfrm>
          <a:off x="6019920" y="3581280"/>
          <a:ext cx="2666880" cy="17528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019920" y="3581280"/>
                    <a:ext cx="2666880" cy="175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2" name=""/>
          <p:cNvGraphicFramePr/>
          <p:nvPr/>
        </p:nvGraphicFramePr>
        <p:xfrm>
          <a:off x="5410080" y="990720"/>
          <a:ext cx="3353040" cy="22860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23" name="" descr=""/>
                  <p:cNvPicPr/>
                  <p:nvPr/>
                </p:nvPicPr>
                <p:blipFill>
                  <a:blip r:embed="rId7">
                    <a:alphaModFix amt="50000"/>
                  </a:blip>
                  <a:stretch/>
                </p:blipFill>
                <p:spPr>
                  <a:xfrm>
                    <a:off x="5410080" y="990720"/>
                    <a:ext cx="335304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4" name=""/>
          <p:cNvSpPr/>
          <p:nvPr/>
        </p:nvSpPr>
        <p:spPr>
          <a:xfrm>
            <a:off x="762120" y="4191120"/>
            <a:ext cx="6476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ay R.M. Biological populatio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being difference equa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table points, cycles, snd cha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- J. Theor. Biol., 1975, vol.51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 2, p. 511-5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"/>
          <p:cNvSpPr/>
          <p:nvPr/>
        </p:nvSpPr>
        <p:spPr>
          <a:xfrm>
            <a:off x="304920" y="1447920"/>
            <a:ext cx="883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«Технократический оптимизи» вызывает сомнен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669960" y="3048120"/>
            <a:ext cx="8524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Следовало бы обратить больше внимания на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общность человека с другими биологическими видами, учитывая багаж, накопленный классической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экологие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9T08:50:56Z</dcterms:created>
  <dc:creator>Кряжимский Ф. В.</dc:creator>
  <dc:description/>
  <dc:language>en-US</dc:language>
  <cp:lastModifiedBy>user</cp:lastModifiedBy>
  <dcterms:modified xsi:type="dcterms:W3CDTF">2008-04-11T08:15:19Z</dcterms:modified>
  <cp:revision>30</cp:revision>
  <dc:subject/>
  <dc:title>УМКД "Экологическая демография человека"</dc:title>
</cp:coreProperties>
</file>