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83.png" ContentType="image/png"/>
  <Override PartName="/ppt/media/image58.wmf" ContentType="image/x-wmf"/>
  <Override PartName="/ppt/media/image34.jpeg" ContentType="image/jpeg"/>
  <Override PartName="/ppt/media/image54.wmf" ContentType="image/x-wmf"/>
  <Override PartName="/ppt/media/image53.wmf" ContentType="image/x-wmf"/>
  <Override PartName="/ppt/media/image50.png" ContentType="image/png"/>
  <Override PartName="/ppt/media/image52.wmf" ContentType="image/x-wmf"/>
  <Override PartName="/ppt/media/image49.png" ContentType="image/png"/>
  <Override PartName="/ppt/media/image51.wmf" ContentType="image/x-wmf"/>
  <Override PartName="/ppt/media/image29.png" ContentType="image/png"/>
  <Override PartName="/ppt/media/image48.png" ContentType="image/png"/>
  <Override PartName="/ppt/media/image45.jpeg" ContentType="image/jpeg"/>
  <Override PartName="/ppt/media/image46.png" ContentType="image/png"/>
  <Override PartName="/ppt/media/image44.jpeg" ContentType="image/jpeg"/>
  <Override PartName="/ppt/media/image43.png" ContentType="image/png"/>
  <Override PartName="/ppt/media/image55.jpeg" ContentType="image/jpeg"/>
  <Override PartName="/ppt/media/image42.wmf" ContentType="image/x-wmf"/>
  <Override PartName="/ppt/media/image82.jpeg" ContentType="image/jpeg"/>
  <Override PartName="/ppt/media/image85.png" ContentType="image/png"/>
  <Override PartName="/ppt/media/image40.png" ContentType="image/png"/>
  <Override PartName="/ppt/media/image38.wmf" ContentType="image/x-wmf"/>
  <Override PartName="/ppt/media/image36.jpeg" ContentType="image/jpeg"/>
  <Override PartName="/ppt/media/image32.png" ContentType="image/png"/>
  <Override PartName="/ppt/media/image31.png" ContentType="image/png"/>
  <Override PartName="/ppt/media/image30.png" ContentType="image/png"/>
  <Override PartName="/ppt/media/image13.wmf" ContentType="image/x-wmf"/>
  <Override PartName="/ppt/media/image39.jpeg" ContentType="image/jpeg"/>
  <Override PartName="/ppt/media/image5.png" ContentType="image/png"/>
  <Override PartName="/ppt/media/image17.png" ContentType="image/png"/>
  <Override PartName="/ppt/media/image71.png" ContentType="image/png"/>
  <Override PartName="/ppt/media/image2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png" ContentType="image/png"/>
  <Override PartName="/ppt/media/image64.wmf" ContentType="image/x-wmf"/>
  <Override PartName="/ppt/media/image11.jpeg" ContentType="image/jpeg"/>
  <Override PartName="/ppt/media/image24.png" ContentType="image/png"/>
  <Override PartName="/ppt/media/image65.wmf" ContentType="image/x-wmf"/>
  <Override PartName="/ppt/media/image19.jpeg" ContentType="image/jpeg"/>
  <Override PartName="/ppt/media/image66.wmf" ContentType="image/x-wmf"/>
  <Override PartName="/ppt/media/image70.png" ContentType="image/png"/>
  <Override PartName="/ppt/media/image28.png" ContentType="image/png"/>
  <Override PartName="/ppt/media/image87.png" ContentType="image/png"/>
  <Override PartName="/ppt/media/image21.jpeg" ContentType="image/jpeg"/>
  <Override PartName="/ppt/media/image80.jpeg" ContentType="image/jpeg"/>
  <Override PartName="/ppt/media/image75.png" ContentType="image/png"/>
  <Override PartName="/ppt/media/image86.png" ContentType="image/png"/>
  <Override PartName="/ppt/media/image10.wmf" ContentType="image/x-wmf"/>
  <Override PartName="/ppt/media/image61.png" ContentType="image/png"/>
  <Override PartName="/ppt/media/image81.wmf" ContentType="image/x-wmf"/>
  <Override PartName="/ppt/media/image9.wmf" ContentType="image/x-wmf"/>
  <Override PartName="/ppt/media/image41.png" ContentType="image/png"/>
  <Override PartName="/ppt/media/image60.jpeg" ContentType="image/jpeg"/>
  <Override PartName="/ppt/media/image67.wmf" ContentType="image/x-wmf"/>
  <Override PartName="/ppt/media/image92.png" ContentType="image/png"/>
  <Override PartName="/ppt/media/image27.png" ContentType="image/png"/>
  <Override PartName="/ppt/media/image33.jpeg" ContentType="image/jpeg"/>
  <Override PartName="/ppt/media/image79.jpeg" ContentType="image/jpeg"/>
  <Override PartName="/ppt/media/image84.png" ContentType="image/png"/>
  <Override PartName="/ppt/media/image74.png" ContentType="image/png"/>
  <Override PartName="/ppt/media/image78.jpeg" ContentType="image/jpeg"/>
  <Override PartName="/ppt/media/image72.png" ContentType="image/png"/>
  <Override PartName="/ppt/media/image77.png" ContentType="image/png"/>
  <Override PartName="/ppt/media/image76.png" ContentType="image/png"/>
  <Override PartName="/ppt/media/image7.wmf" ContentType="image/x-wmf"/>
  <Override PartName="/ppt/media/image73.png" ContentType="image/png"/>
  <Override PartName="/ppt/media/image69.png" ContentType="image/png"/>
  <Override PartName="/ppt/media/image25.png" ContentType="image/png"/>
  <Override PartName="/ppt/media/image90.png" ContentType="image/png"/>
  <Override PartName="/ppt/media/image18.jpeg" ContentType="image/jpeg"/>
  <Override PartName="/ppt/media/image56.wmf" ContentType="image/x-wmf"/>
  <Override PartName="/ppt/media/image57.wmf" ContentType="image/x-wmf"/>
  <Override PartName="/ppt/media/image14.jpeg" ContentType="image/jpeg"/>
  <Override PartName="/ppt/media/image3.wmf" ContentType="image/x-wmf"/>
  <Override PartName="/ppt/media/image15.wmf" ContentType="image/x-wmf"/>
  <Override PartName="/ppt/media/image89.jpeg" ContentType="image/jpeg"/>
  <Override PartName="/ppt/media/image1.jpeg" ContentType="image/jpeg"/>
  <Override PartName="/ppt/media/image68.wmf" ContentType="image/x-wmf"/>
  <Override PartName="/ppt/media/image35.jpeg" ContentType="image/jpeg"/>
  <Override PartName="/ppt/media/image47.png" ContentType="image/png"/>
  <Override PartName="/ppt/media/image37.wmf" ContentType="image/x-wmf"/>
  <Override PartName="/ppt/media/image88.jpeg" ContentType="image/jpeg"/>
  <Override PartName="/ppt/media/image16.png" ContentType="image/png"/>
  <Override PartName="/ppt/media/image4.png" ContentType="image/png"/>
  <Override PartName="/ppt/media/image20.jpeg" ContentType="image/jpeg"/>
  <Override PartName="/ppt/media/image12.wmf" ContentType="image/x-wmf"/>
  <Override PartName="/ppt/media/image8.jpeg" ContentType="image/jpeg"/>
  <Override PartName="/ppt/media/image26.png" ContentType="image/png"/>
  <Override PartName="/ppt/media/image91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7EF-2D73-49FF-B947-B0070B0C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2AA-9A67-4A7E-9B4B-E863478B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3CD-4286-4D6A-8D62-DF9ECCC0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645-4651-4A90-AC0B-F383A5B4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E82C-6736-4002-A0D5-F43FDD13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5B3F-4975-4276-9E1F-0E8E435E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DF25-C45C-421F-A18A-75D215F0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A9FA-F55D-4609-BE88-A4C7BA51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6D25-9F28-4342-A0F7-7AF35FCD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F9F4-15EB-41E9-8A17-B081C950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14D1-CFD0-48A2-AED7-77FD2184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3C1-6828-487E-9214-693727AB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C3CD-01D9-457E-B25B-83EAA6A1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7FA2-5FC0-4CA8-9B15-29B82AC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E698-57BB-43B8-BC2E-C0DA900A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3719-8321-4930-ADF1-EEC5C241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28ED-1406-43F0-9F34-BBFF5EC7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B539-1270-4363-ABEC-05F2E6FC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3249-B7AA-4515-9F14-C108C7BD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7ADD-373B-47F5-A865-055AE66B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E415-12DF-4546-BD2E-82F70E9E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08C5-6ED7-44C5-A279-73643CFE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BA0-D156-4FE5-A321-36A99988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40F97-6306-488C-B04D-631F6525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F1FD-F290-463F-95AB-CFD6CD14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D86D-10E1-4AB0-914E-C1443E5D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52A26-62CA-42EF-9819-5A430CFA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E328-117B-4F73-8AD6-3D556392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AC7F5-C9F5-44CE-A29C-0BD0FF8F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EA4E8-7202-4DA3-9811-CBA371DF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FA0-D688-4584-9B88-1B732497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BE5-49C7-4441-BAC2-F2FAE7E5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3D5-ECCE-451B-959D-7686318A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7E7-C772-4095-956D-DE37968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E96-C279-454C-8CB3-AB95FA4D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AD8-C352-41ED-B9B5-D309748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E7B1-BC67-4460-B733-6F260E4BDD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B2AC-4BB7-4A8E-BDBA-9CCD099976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1FDF-A965-4FA2-87D7-3FA3D14888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1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52.wmf"/><Relationship Id="rId7" Type="http://schemas.openxmlformats.org/officeDocument/2006/relationships/package" Target="../embeddings/oleObject3.xlsx"/><Relationship Id="rId8" Type="http://schemas.openxmlformats.org/officeDocument/2006/relationships/image" Target="../media/image53.wmf"/><Relationship Id="rId9" Type="http://schemas.openxmlformats.org/officeDocument/2006/relationships/package" Target="../embeddings/oleObject4.xlsx"/><Relationship Id="rId10" Type="http://schemas.openxmlformats.org/officeDocument/2006/relationships/image" Target="../media/image54.wmf"/><Relationship Id="rId1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56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57.wmf"/><Relationship Id="rId7" Type="http://schemas.openxmlformats.org/officeDocument/2006/relationships/package" Target="../embeddings/oleObject3.xlsx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81.wmf"/><Relationship Id="rId6" Type="http://schemas.openxmlformats.org/officeDocument/2006/relationships/slideLayout" Target="../slideLayouts/slideLayout2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53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7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58.wmf"/><Relationship Id="rId8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2.png"/><Relationship Id="rId8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46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Лекция 1. Общая экология и экология чело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мет и 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893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6480" y="838080"/>
            <a:ext cx="88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ТО ТАКОЕ ЭКОЛОГИЯ ЧЕЛОВЕКА? РАЗНЫЕ ПОД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371600"/>
            <a:ext cx="853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, наконец, третий подход, продолжающий предст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й экологии, рассматривает экологию человека к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кологию ви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mo sapien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взаимодействующего со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 этом следует рассматривать все основные уров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и - индивидуум (это аутэкологический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колого-физиологический уровень), надорганизм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истемы (аналог популяционного уровня других видов) 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конец, биосферные функции челове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нашем курсе 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м придерживаться этого, синтетического подход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ив наибольшее внимание системам надорганизм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я, динамика которых во многом связана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мографическими процессами - рождаемостью, смерт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расселением (эмиграцией и иммиграцие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105520" y="3886200"/>
            <a:ext cx="2666880" cy="1143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«широкое» поним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(гуманитарно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886200"/>
            <a:ext cx="2666880" cy="1143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</a:rPr>
              <a:t>«узкое» поним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</a:rPr>
              <a:t>(медико-физиологическо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1219320"/>
            <a:ext cx="5486400" cy="1904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ЭКОЛОГ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5105520"/>
            <a:ext cx="1600200" cy="1447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Синте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(общ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эколог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31240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1240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3124080"/>
            <a:ext cx="7632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ид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omo sapien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Род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o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Семейство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ominid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Надсемейство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omino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тряд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ласс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Mamm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еловек  - биологический ви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1440" y="5451480"/>
            <a:ext cx="827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– гомойотермный (теплокровный) вид, имею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 общего (особенно на уровне организма, т.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утэкологическом уровне) с другими видами млекопита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50a0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76320" y="650880"/>
            <a:ext cx="8180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и построении экологии человека (в том числе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и построении экологической демографии челове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обходимо  учитывать как общие с друг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идами закономерности, так и специфи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дальнейшем мы узнаем, что человек - закономе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ождение прогрессивной эволюции, основ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ктор которой направлен на усиление пото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нергии и ускорение круговорота веще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основное приспособление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является на уровне, аналогичном популяционному,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циализация (сотрудничество, совместное постро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ношений со средой) - необходимый атрибут эт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новной адаптации человека, позволившей ему измен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ологические функции без изменения наследственной баз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Лекция 2. Прогрессивная биологическая эволюция и человек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нергетические аспек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08680" y="879480"/>
            <a:ext cx="86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поставимый» энергетический обм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А.И. Зотин, А.А. Зотин, 1999) -э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эффициент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аллометрическом уравн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исимости интенсивности обмена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от характер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вида размеров (масс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a M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смысл этого коэффициента - ожидаем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личина энергозатрат при единичной массе те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эффициен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лометрический экспонент) мало изменя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разных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7960" y="4575240"/>
            <a:ext cx="744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ф. А.И. Зотиным было показано, что величин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жет служить показателем организован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орядоченности (т.е. сложности), как выра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рмодинамического потенциала (дисспатив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ункции по И. Р. Пригожин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685800" y="1066680"/>
          <a:ext cx="746748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467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7759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572000" cy="4419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32040" y="61722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ладимир Иванович Вернадский (1863-19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28600" y="345960"/>
            <a:ext cx="76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ая тенденция согласуется с представл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.И. Вернадского о ускорении круговорота веще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усиления потока энергии по мере эволюции биосф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48080" y="498600"/>
            <a:ext cx="79606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ипотеза «термальных  барьеров» (Зотин, Зотин, 199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но этой гипотезе, пойкилотермные (эндотермные) животные 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гут иметь величину сопоставимого обмена более (5-8 мВт/г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аче они погибнут от перегрева. Это 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вый тепловой барь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игнутый у прямокрылых и однопроходных млекопитающ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90920" y="3809880"/>
          <a:ext cx="3504960" cy="2659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809880"/>
                    <a:ext cx="3504960" cy="26593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55640" y="2514600"/>
            <a:ext cx="81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ование тенденции прогрессивной эволюции привело 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ю гомойотермии. Однако по мере биоэнергетического прогресс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.е. увеличен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был достигну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торой тепловой барь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48-50 мВт/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у воробьиных птиц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5943600"/>
            <a:ext cx="3048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472428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88920" y="5756400"/>
            <a:ext cx="246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ый тепл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рь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88560" y="4384800"/>
            <a:ext cx="240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торой тепл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рь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698a"/>
            </a:gs>
            <a:gs pos="100000">
              <a:srgbClr val="4dafe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8720" y="574560"/>
            <a:ext cx="888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ДОЛЖЕНИЕ ТЕНДЕНЦИИ К ПРОГРЕССИВ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ВОЛЮЦИИ БЫЛО МОЖНО ТОЛЬКО ПРИ ПЕРЕХО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НОВОМУ (НЕБИОХИМИЧЕСКОМУ) СПОСОБ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УЧЕНИЯ  И РАСХОДОВАНИЯ ЭНЕРГ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НЕ ИЗ ПИЩИ) И СВЯЗАННЫМ С ЭТИМИ ПРОЦЕСС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ПОЛЬЗОВАНИЕМ НОВЫХ РЕСУРСОВ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8120" y="3394080"/>
            <a:ext cx="753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стало возможным с появлением цивилизац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ая позволила источники энерг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 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ая способность возможна только развитых систем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учения, хранения и использова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сознание), но и одновременно с  социализацией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появлением обще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d1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76520" y="2209680"/>
            <a:ext cx="60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к что же это за выскочка среди наук, которая представляется нам набором фактов без всякой теории и которая явно страдает от избытка наблюдений и от отсутствия принципов для их классификации? А существует ли вообще такая наука – эколог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ймьян Макфедь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453960"/>
            <a:ext cx="624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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557280"/>
            <a:ext cx="9245520" cy="5735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739520" y="803160"/>
            <a:ext cx="65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ребление энергии на одного человека в су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Дж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19000" y="61372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т 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9840" y="447840"/>
            <a:ext cx="80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адии исторического развития человечеств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начения коэффициент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мВт/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14400" y="2057400"/>
          <a:ext cx="7391520" cy="34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057400"/>
                    <a:ext cx="73915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685800" y="914400"/>
          <a:ext cx="7924680" cy="534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14400"/>
                    <a:ext cx="792468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 flipH="1">
            <a:off x="4190760" y="4343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2286000"/>
            <a:ext cx="266724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4343400"/>
            <a:ext cx="18288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5334120"/>
            <a:ext cx="167652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952880"/>
            <a:ext cx="304776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5410080"/>
            <a:ext cx="2362320" cy="763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8458200" cy="4067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92360" y="650880"/>
            <a:ext cx="827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на экологических функций сопровождалась быст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том численности челове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2620800" cy="3429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363760" y="358128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нальд А. Фишер (1890-19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6800" y="4343400"/>
            <a:ext cx="78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итерий приспособлен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среднее число потомк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тигающих репродуктивного возрас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ых средний индивидуум в популяции оставляет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чение жизни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способл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тем больше, ч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стрее увеличивается численность, т.е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язана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мографическими характеристи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эволюционно-экологической точки зрения человек - э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резвычайно приспособлен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 существованию 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и с окружающей средой (в широком смысл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чевидно, именно высокая приспособленность обеспечил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ирочайшее распространение людей на планете и стремитель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тносительно) увеличение их численности за историческ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иод. При этом, как мы видели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мена экологическ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оли» (экологических ниш), происходила без существен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менения наследственной баз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человечества шло не по обычному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х видов пути «проб и ошибок», когда естествен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бор, «играя» в процессе смены поколений с наследственностью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чивостью, вырабатыва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ты, обеспечива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ую приспособленность - адапт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то же является главной адаптацией челове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ответа на этот вопрос необходимо рассмотреть раз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ные уровни систем, в которые организован вид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mo Sapie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daae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кция 3. Адаптации человека на уровне организ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много об аутэкологии и экофизиологии челове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c19a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040" y="0"/>
            <a:ext cx="922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нятие 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даптация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трактуют по-разному, хотя э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рактовки объединяет то, что адаптации –  это характеристи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зволяющие повышать приспособленность, проявляющуюс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ежде всего, в увеличении относительного колич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жизнеспособного потом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000" y="2362320"/>
            <a:ext cx="8512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ая трактовка – широкая, согласно которой утверждается, что люб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знак), позволяющий  противодействовать негативным (снижающи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ктивность или вовсе приводящим к гибели организмов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ействиям факторов среды можно назва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даптацией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этом не важно, имеет ли это качество наследственно закрепленн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т.е. передающуюся следующим поколениям) биохимическую базу, или эт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гомеостатических связей со средой на уровне физиологическ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кций (т.е. тех реакций, которые, с генетической точки зрения явля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ификациями,  не выходящими за пределы «нормы реакции»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 то, что называют «акклимацией» (проявление «адаптивных» свойст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скусственных (экспериментальных) условиях, и «акклиматизацией»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же самое в условиях, изменяющихся независимо о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зиолога-экспериментатора (под действием неуправляемых факторов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4b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нятия 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даптации» и «акклимации»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льтернативная трактов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4640" y="1066680"/>
            <a:ext cx="8710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ое понимание того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различать «адаптацию» и «акклимацию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ано с разделением уровня проявления свойств, позволяющ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бежать гибели или увеличить продукцию - быстрее расти и индивидуа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ся (зреть) на уровне реакций организма («акклимацию» с этой точ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рения) с уровнем, проявляющимся на надорганизменном (популяционном 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енетико-эволюционном смысле) уровне, когда эти свойства име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ледственно закрепленный характер. Тогда это «настоящая» адапта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8560" y="4343400"/>
            <a:ext cx="839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мотря на то, что пределы нормы реакции - это, безусловно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ледуемое свойство, все ж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ое определение «адаптаций»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кклимаций» (первые наследуемы, т.е. всегда усваиваю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дующими поколениями, а вторые- это скорее проявл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ых характеристик отдельного организма) боле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тветствует представлениям о системной иерархии живых объек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c713"/>
            </a:gs>
            <a:gs pos="100000">
              <a:srgbClr val="dae9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5638680" y="2514600"/>
          <a:ext cx="350532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514600"/>
                    <a:ext cx="35053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72200" y="5257800"/>
            <a:ext cx="2819520" cy="1447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49520" y="270000"/>
            <a:ext cx="80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оогеографическое правило Бергма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близких форм гомойотермных животных т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битают в более холодном климате, как правило име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крупные разм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048120"/>
            <a:ext cx="5105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ой этого является то, ч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плопродукция имеет более высо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лометрический коэффициен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висимости от массы тела, ч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плоотдача (первый имеет значение около 0,75, а второй – около 0,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 поддерживать постоянную температуру тела  крупным легче, ч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лк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7b7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3024000" cy="357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609480" y="4038480"/>
          <a:ext cx="8001000" cy="213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038480"/>
                    <a:ext cx="8001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c19a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651640" y="304920"/>
            <a:ext cx="3035160" cy="1600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2368440" cy="1314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629400" y="4267080"/>
            <a:ext cx="2095560" cy="19940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04920" y="228600"/>
            <a:ext cx="48164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вило Алл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гомойотермных живот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тупающие части (теплоотдатчики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анном примере  - уши), прида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грацильный облик, больше у тех, кто живет в более жарком клима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30120" y="190512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сец (Аркти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000" y="373392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ая лисица (Умереная зон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31960" y="636264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нек (Северная Афри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9680" y="3352680"/>
            <a:ext cx="471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пределенном смысле правило Алл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 отличие правила Бергмана) объясня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тремление избежать переохлажд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стремление избежать перегре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c413"/>
            </a:gs>
            <a:gs pos="100000">
              <a:srgbClr val="dae9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33520" y="838080"/>
            <a:ext cx="8601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авило Бергмана и правило Аллена в определенной степени противоречивы (например, африканские слоны большие, но в то же время и имеют большие уш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этому каждое из них имеет много как подтверждений, так и исключ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м не менее показано (Алексеев, 1994 и другие), что часто (особенно если брать выборки из мест, где перемешивание населения было не слишком заметно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ти правила соблюда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cd05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029200" y="8380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934320" y="838080"/>
            <a:ext cx="1752480" cy="2210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181480" y="38098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086600" y="380988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28600" y="380880"/>
            <a:ext cx="443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о Бергма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асто может считаться выполняемым для челове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фотографиях типич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о фенооблику) северянин (массивный человек) и типичные южане (небольшого роста и масс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9680" y="3733920"/>
            <a:ext cx="500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жители Африки сравнива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битателем северных тун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х фенооблике заметны различия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фриканцы более грацильны.Это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люстра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а Алл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24400" y="498600"/>
            <a:ext cx="843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гое эколого-географическое правил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ое в связ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распространением негроидной расы (а также с т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южане чаще брюнеты) давно считается применим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человеку. Это - так называемое прави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 Глог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сит, ч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теплых и влажных климатических услов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раску гомойотермных животных больше определя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ные  пигм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мелан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4840" y="3886200"/>
            <a:ext cx="474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нитолог Константин Глог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ал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графическу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чивость райской мухолов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ришел к тому, что вывел э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3333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2880" y="990720"/>
            <a:ext cx="81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ь еще один фенотипический признак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сов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казатель или индекс Джонстона-Баксто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котор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ко используется в антропологии (и расоведении)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ношение наибольших ширины носа к его дл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этого индекса больше у людей, принадлежа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«тропическим» типам (потому что их наследственная ба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лась под действием факторов сред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ющих наиболее адаптивное измен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нотипических характеристик организма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утэкологическом уровне (как у других видов) пут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игры» естественного отбора с наследственностью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чив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3048120" y="68580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355400" y="117360"/>
            <a:ext cx="66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ЕРПОВИДНО-КЛЕТОЧНАЯ АНЕМИЯ (С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71720" y="2362320"/>
            <a:ext cx="776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ом работы генетических механизмов, сход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таковыми у других видов является наследствен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болевание, связанное с распространением аллел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ый в гомозиготе летален. Он должен бы бы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иминирован, и его действительно нет в района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де не распространена тропическая маляр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440" y="4800600"/>
            <a:ext cx="900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ло в том, что малярийные плазмодии не могут размножа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измененных у гетерозигот  «серповидных» эритроци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тому пониженная жизнеспособность больных С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омпенсируется» снижением жизнеспособности бо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ярией, что позволяет гену (аллелю) СКА не исчез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53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97960" y="3200400"/>
            <a:ext cx="778968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ществует четыре допустимых комбинации агглютининов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глютиногенами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то, какая из них характерна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ого человека, определяет его группу крови по систем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α и β: первая (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 и β: вторая (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α и B: третья (B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 и B: четвёртая (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8480" y="533520"/>
            <a:ext cx="746532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руппы крови у человека определяются тремя альтернативны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ариантами одного гена (А, В, О), расположенного в 9-й хромосом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та система групп крови наследуется по множественном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у, при котором действие различных вариан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дного гена проявляется в равной степени, независимо друг от друг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парное сочетание этих генов определяет одну из четырех групп кров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3040" y="2286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РУППЫ КРОВ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a6d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133720" cy="2362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298520" y="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распределении групп крови также к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  различных других аутэкологических призн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уществуют различия для выходцев из раз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астей человече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37960" y="1676520"/>
            <a:ext cx="503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ример, североамериканские индейц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ти исключительно облад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ой группой (0 по систем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47720" y="2743200"/>
            <a:ext cx="5534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Кроме того, многие физиологические признаки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корость тока крови, тип обме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жировой или углеводный) различ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у представителей разных народ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8240" y="4038480"/>
            <a:ext cx="873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эскимосы имеют медленный ток крови, ч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ствует существованию в условиях хол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оригены севера (ненцы и чукчи) имеют жировой 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ена (их пища - рыба и мясо), а выходцы из юго-восточ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ии - углеводный (так как едят в основном растительную пищ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480" y="0"/>
            <a:ext cx="857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нако, факторы эволюции, работающие у друг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дов, не привели к сколько-ни будь радикальны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нениям наследственности человек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х действие ограниче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553080" y="1219320"/>
            <a:ext cx="2257560" cy="3371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546960" y="4800600"/>
            <a:ext cx="259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ргей Серге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твер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1400" y="2133720"/>
            <a:ext cx="59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ими факторами являются, как показ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.С. Четвериков (1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оляция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рекомбин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3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волны жизн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ебания численности, а итог все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водит (4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тественный отб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1960" y="4648320"/>
            <a:ext cx="575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этому адаптации организме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ровня, видимо, не могли пол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ределять высокую приспособл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еловека. Основной адаптац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является что-то друг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екция 4. Основная адаптация чело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льтура-основная адаптация человека проявляется на надорганизменном уров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81480" y="1523880"/>
            <a:ext cx="2011320" cy="639720"/>
          </a:xfrm>
          <a:prstGeom prst="rect">
            <a:avLst/>
          </a:prstGeom>
          <a:solidFill>
            <a:srgbClr val="33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523880"/>
            <a:ext cx="2011320" cy="63972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рган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1752480"/>
            <a:ext cx="11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962160" y="2057400"/>
            <a:ext cx="11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66868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457200" y="1523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0858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2514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Аутэкология – организм во взаимодействии со средой как система, отражающая видовые особ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85440" y="3543480"/>
            <a:ext cx="65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Экологическая физиология – функциональные 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организма и сре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64920" y="4510080"/>
            <a:ext cx="705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акториальная экология – воздействие факторов среды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рган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60800" y="228600"/>
            <a:ext cx="87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так, мы убедились, ч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адаптац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одит к тому, что он использует энергию 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химическим путем, а также способен осваив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ые ресурсы, недоступные другим вид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адаптация позволяет человеку продолжать ли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увеличение показателя упорядоченности, характерн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рогрессивной эволюции, на которую указывал еще в 1925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Н. Северцов, говоря о повышении «энерг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едеятельности» в ходе ароморфоз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2667240" cy="22381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209680" y="603576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ексей Николаевич Северц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ортрет работы М.А. Нестер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16680" y="685800"/>
            <a:ext cx="79455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а адаптация позволила также человеку мен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ологические роли без существ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менения наследственной основы, т.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уктуры ДН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других видов освоение новых экологических ниш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, как правило, появление новых форм, связа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действием факторов эволюции, среди которых 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то имеет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золяц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группировок популяцио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н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ое проявление этой новой адаптации привел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-видимому, к расселению людей в предел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йкумены, связанному с переходом от собиратель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охоте на крупных животных (палеолит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волюц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41800" y="228600"/>
            <a:ext cx="8311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ая адаптация связана не только со способност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энергию, полученную вне организ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и с развитой способностью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поколения в поколение и обмениваться ею бе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редства «информационных молеку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это, начиная с первого изменения экологиче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и у первобытных охотников, использовавших огон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возможно без (1) развития сознания и (2) социализации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ния об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новная адаптация человека им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дорганизменный характер, и связана с совмест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здействием на окружающий мир (сред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14640" y="304920"/>
            <a:ext cx="86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у надорганизменную адаптацию, проявляющуюс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вне группировок, в чем-то аналогичных популяцион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ировкам других видов, можно назвать КУЛЬТУР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1905120"/>
            <a:ext cx="411480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8360" y="19810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285640" y="2666880"/>
            <a:ext cx="6858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266688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5280" y="3657600"/>
            <a:ext cx="190512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24480" y="3581280"/>
            <a:ext cx="198144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6760" y="380988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ухо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52120" y="37339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атери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760" y="4572000"/>
            <a:ext cx="863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УЛЬТУ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меет две основные стороны, связанные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ми ее функциями - пере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уховная культу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и способностью получать и расход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нергию из внешних источников, а также осваивать н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сурсы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атериальная культу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1523880" y="1397160"/>
          <a:ext cx="6094440" cy="4063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7160"/>
                    <a:ext cx="6094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755720" y="1496880"/>
          <a:ext cx="5630760" cy="3864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5720" y="1496880"/>
                    <a:ext cx="5630760" cy="38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840240" y="380880"/>
            <a:ext cx="72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Глобальные революции» и изменение экологическ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ункций человека в историческом развит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8534520" cy="5791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04920" y="493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«промышленной революции»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VII-XIX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 человечество освоило «резервные фонды» биосферы, изменяя  биогеохимические круговор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екция 5. Основные характеристики биологических систем популяционного ран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ззрения современной популяционой эк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92520" y="609480"/>
            <a:ext cx="685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ПОПУЛЯЦИОННАЯ ЭКОЛОГ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(ДЕМЭКОЛОГ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25" name=""/>
          <p:cNvGraphicFramePr/>
          <p:nvPr/>
        </p:nvGraphicFramePr>
        <p:xfrm>
          <a:off x="0" y="1676520"/>
          <a:ext cx="9144000" cy="152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9144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895480" y="228600"/>
            <a:ext cx="1905120" cy="2362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603800" y="251460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одосий Григорьевич Добжан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8320" y="5029200"/>
            <a:ext cx="77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ВОЛЮЦИОННО-ГЕНЕТИЧЕСКИЙ АСПЕК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уляция - элементарная единица микроэволюцио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цесса (видообразования), а также элемента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орологическая (пространственная) единица в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4600" y="2895480"/>
            <a:ext cx="743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пуляция - совокупность индивидуум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дного вида, населяющих определенну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носительно изолированную, территор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акваторию) и обладающая  определенной степен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нмиксии (возможности свободного скрещиван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1438560" cy="1962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907640" y="2209680"/>
            <a:ext cx="48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имир Николаевич Беклемиш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7520" y="4876920"/>
            <a:ext cx="78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ОНАЛЬНО-ЭКОЛОГИЧЕСКИЙ АСПЕК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уляция - единица взаимодействия видов в сообществ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биоценоз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6880" y="3048120"/>
            <a:ext cx="85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пуляция - совокупность особей (и их групп), населя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ределенную территорию и взаимодействующая с други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акими совокупностями иных видов на этой территор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2f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66868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846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0858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45040" y="2184480"/>
            <a:ext cx="2011320" cy="639720"/>
          </a:xfrm>
          <a:prstGeom prst="rect">
            <a:avLst/>
          </a:prstGeom>
          <a:solidFill>
            <a:srgbClr val="33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кружающая ср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44640" y="2184480"/>
            <a:ext cx="2011320" cy="639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Жив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5960" y="2363760"/>
            <a:ext cx="1189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55600" y="2546280"/>
            <a:ext cx="1189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62160" y="2852640"/>
            <a:ext cx="63972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16640" y="2852640"/>
            <a:ext cx="45720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21000" y="3586320"/>
            <a:ext cx="1371600" cy="45720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Живая сист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41960" y="3586320"/>
            <a:ext cx="1371600" cy="4572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биотическая сист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2600" y="376704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592600" y="385776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76160" y="404172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576520" y="2852280"/>
            <a:ext cx="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3720" y="2852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33720" y="3767040"/>
            <a:ext cx="109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91320" y="4041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27160" y="4498920"/>
            <a:ext cx="466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027160" y="2852280"/>
            <a:ext cx="0" cy="164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6668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1676520"/>
            <a:ext cx="466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31040" y="1676520"/>
            <a:ext cx="0" cy="19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00400" y="685800"/>
            <a:ext cx="2376360" cy="35812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289600" y="426708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нислав Семенович Швар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0" y="4876920"/>
            <a:ext cx="4443480" cy="1557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варц С.С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пуляцио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уктура ви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ологический журнал. - 1967.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46, вып. 10.  - С. 1456-146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23520" y="4876920"/>
            <a:ext cx="4016520" cy="1557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варц С.С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пуляцио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уктура биогеоцено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/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ия АН СССР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1. - № 4. - С. 485-4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82360" y="2286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ИНТ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386000" y="371520"/>
            <a:ext cx="659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руппировки популяционного ранга - э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ожные систем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809880" y="2438280"/>
            <a:ext cx="2175120" cy="3048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900520" y="586728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колай Павлович Нау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5880" y="152388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ни обладают структурирова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48120" y="333360"/>
            <a:ext cx="865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лавные интегральные характерист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пуляций - эт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исленнос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и численнос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несенная к территории (акватории)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лотнос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4520" y="5181480"/>
            <a:ext cx="82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этому понятие плотности популя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сно связано с одной из важных популяцио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уктур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странственной структуро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5400" y="2209680"/>
            <a:ext cx="8774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пуляционной экологии различают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реднюю плот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кологическую плот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Средняя плотность - э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исленность, отнесенная к территории, включающу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непригодные для обитания части, а экологическая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несенная только к пригодным для обитания част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рритории, на которой обитает популяция. Последня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жет быть «пятнистой», где пригодные места перемежа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непригодн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369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остранственная структура попу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320" y="838080"/>
            <a:ext cx="72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и основных типа пространственной структу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8760" y="160020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вномерное распределени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еднее расстояние меж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обями (или точками, где нахождение особ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иболее вероятно)мало изменчиво, т.е.почти одинако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219320" y="2895480"/>
          <a:ext cx="2286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8954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917640" y="5305320"/>
            <a:ext cx="700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сурсы территории (акватории) использу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нсивно; территориальный антагонизм разв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в крайнем выражение - территориальное п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у животны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67080" y="3276720"/>
                <a:ext cx="33530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10680" y="304920"/>
            <a:ext cx="88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остранственная структура попу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360" y="838080"/>
            <a:ext cx="72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и основных типа пространственной структу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9960" y="1600200"/>
            <a:ext cx="796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лучайное распределени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еднее расстояние меж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обями (или точками, где нахождение особ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иболее вероятно)довольно изменчиво и носит случай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арак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990720" y="3124080"/>
          <a:ext cx="281916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124080"/>
                    <a:ext cx="28191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191120" y="3276720"/>
                <a:ext cx="3276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842760" y="5410080"/>
            <a:ext cx="77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сурсы территории (акватории) использу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учайным образом; территориальный антагонизм разв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аб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10680" y="304920"/>
            <a:ext cx="88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остранственная структура попу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360" y="838080"/>
            <a:ext cx="72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и основных типа пространственной структу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0880" y="1371600"/>
            <a:ext cx="894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ггрегированное (групповое) распределе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  между  особями (или точками, где нахождение особ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вероятно) сильно изменчиво; оно либо велико, либ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о. Особи собираются в груп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90720" y="3124080"/>
          <a:ext cx="26668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124080"/>
                    <a:ext cx="26668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842040" y="5410080"/>
            <a:ext cx="718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сурсы территории (акватории) использу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тенсивно; территориальный антагонизм не разви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ее наблюдается тенденция к скучива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4191120" y="3124080"/>
                <a:ext cx="419076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251460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228600" y="3525840"/>
          <a:ext cx="7391520" cy="28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25840"/>
                    <a:ext cx="73915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28600" y="3962520"/>
          <a:ext cx="8610480" cy="988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962520"/>
                    <a:ext cx="86104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4572000" y="0"/>
          <a:ext cx="5029200" cy="3429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0"/>
                    <a:ext cx="50292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4724280" y="3251160"/>
          <a:ext cx="4800600" cy="36068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251160"/>
                    <a:ext cx="48006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838080" y="5334120"/>
                <a:ext cx="236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52280" y="25718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4419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erhuls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.-F. "Recherches mathematiques sur la lo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'accroissemen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de la population."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ouv. mem. de l'Academie Royale des Sci. et Belles-Lettres de Bruxelle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18, 1-41, 18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80044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"/>
          <p:cNvGraphicFramePr/>
          <p:nvPr/>
        </p:nvGraphicFramePr>
        <p:xfrm>
          <a:off x="609480" y="3733920"/>
          <a:ext cx="5275440" cy="20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733920"/>
                    <a:ext cx="52754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3962520" y="304920"/>
          <a:ext cx="5181480" cy="2881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304920"/>
                    <a:ext cx="5181480" cy="28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8600" y="5638680"/>
                <a:ext cx="4114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86" name=""/>
          <p:cNvGraphicFramePr/>
          <p:nvPr/>
        </p:nvGraphicFramePr>
        <p:xfrm>
          <a:off x="4343400" y="3429000"/>
          <a:ext cx="4267080" cy="2971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3429000"/>
                    <a:ext cx="42670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28600" y="3048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лександр Дмитриевич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азык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529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1905120" cy="2819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562720" y="4876920"/>
                <a:ext cx="1803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4191120" y="2209680"/>
            <a:ext cx="4495680" cy="25146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950280" y="574560"/>
            <a:ext cx="43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учитывать и кооперацию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уренцию, то прояви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эффект Олл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3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кция 6. Популяционная демограф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лавные структуры, определяющие динамику чис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Экологические системы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5400720" cy="351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34120" y="914400"/>
            <a:ext cx="18288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1143000"/>
            <a:ext cx="6934320" cy="15238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9360" y="4267080"/>
            <a:ext cx="16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утэкология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ологиче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олог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6520" y="35812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уляцион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ология (демэколог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1440" y="2819520"/>
            <a:ext cx="21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эко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биогеоценолог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5120" y="19051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обальная эколог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3360" y="11736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ЕРАРХИЯ ЭКОЛОГИЧЕСКИХ СИСТ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80" y="5670720"/>
            <a:ext cx="87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содержит все меньше биологических компонентов по ме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растания уровня организации (сред, особенно абиот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ее структурирована,  чем био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765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15720" y="1752480"/>
            <a:ext cx="882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пуляционная демография - разд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пуляционной экологии, который изуча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новные популяционные структур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яющие  динамику числен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плот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главные характеристики, ее определяющ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то - рождаемость (относительное количе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вых особей за единицу времени), смерт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доля погибающих за единицу времени) и (в меньш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пени) эмиграция  и иммиграция - относитель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личество покинувших территорию и прибывш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е за единицу времени соответствен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7440" y="254160"/>
            <a:ext cx="758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лово «демография» означает «опис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родонаселения» и происходит от грече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рней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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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36e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907280" y="762120"/>
            <a:ext cx="50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пуляции структурирова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1400" y="464832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ные поло-возрастные группы имеют раз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ункциональное (в экологическом смысле) знач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всего, они вносят разный вклад в воспроизвод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селения. Поэтом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ло-возрастная структу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явля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сновной демографической структур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52680" y="3124080"/>
            <a:ext cx="1295640" cy="5335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590920" y="34290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8320" y="3352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2895480"/>
            <a:ext cx="106668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2971800"/>
            <a:ext cx="9907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312408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об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1600200"/>
            <a:ext cx="66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пример, каждый индивидуум можно охарактеризовать полом и возраст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73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31840" y="304920"/>
            <a:ext cx="887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ными демографическими параметр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являются выживаемость (величина, дополнитель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 смертности) и рождаемость (среднее уде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исло новорожденных вычисляемые для кажд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озрастного класс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5080" y="2743200"/>
            <a:ext cx="8719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живаемость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- это вероятность дожить  от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 возрас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Ясно, что для новорожденны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живаемость равна единице (если особь появилась на све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 она выжил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80" y="4724280"/>
            <a:ext cx="8725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ждаемость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- это среднее удельное числ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орожденных, приходящееся (за единицу времени) на одн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ь возрас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3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85800" y="1143000"/>
            <a:ext cx="8458200" cy="49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 характеристики служат для постро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мографических таблиц, по параметрам которых можно рассчитать приспособленность 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чистую скорость размножени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жидаемую продолжительность жизни в возраст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показывающий, сколько еще осталось в среднем прожить, а также «репродуктивную ценность»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раст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показывающий, сколько в среднем принесет потомков особь этого возраста за оставшуюся жиз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19760" y="0"/>
            <a:ext cx="82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примера приведем таблицу для рыси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ynx lynx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0-е-80-е год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., когда наблюдался спад числен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го хищника на Среднем Ура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80880" y="3505320"/>
          <a:ext cx="8458200" cy="31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582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3429000" y="1219320"/>
            <a:ext cx="2857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685800" y="838080"/>
          <a:ext cx="77724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7724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533520" y="609480"/>
          <a:ext cx="822960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8229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457200" y="838080"/>
          <a:ext cx="8229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229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685800" y="838080"/>
          <a:ext cx="807732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80773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533160" y="838080"/>
            <a:ext cx="812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истая скорость размножения связана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льтузианским параметром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а все парамет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вязывает  так называемое основ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емографическое уравнение  Эйлера-Лот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143000" y="3581280"/>
                <a:ext cx="662940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90720" y="2819520"/>
            <a:ext cx="19810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5715000"/>
            <a:ext cx="198144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4191120"/>
            <a:ext cx="19814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743200"/>
            <a:ext cx="1981080" cy="6094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609480"/>
            <a:ext cx="5715000" cy="11430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21320" y="575640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виду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720" y="42670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уля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8320" y="4800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31920" y="274320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971440" y="3428640"/>
            <a:ext cx="6094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562720" y="3352320"/>
            <a:ext cx="76176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981080" y="1752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5360" y="91440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иота Зем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6760" y="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а разбиения биоты - два масштаба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0760" y="3581280"/>
            <a:ext cx="26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ологи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функциональны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шт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31840" y="3429000"/>
            <a:ext cx="26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волюцио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систематическ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шт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8360" cy="4876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88440" y="0"/>
            <a:ext cx="880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ной и той же приспособленности можно достичь, ли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нсивно размножаясь, но имея большую смертность, либ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вкладывать» в доведение всего (немногочисленного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омства до репродуктивного возра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кция 7. Видовая структура чело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Чем надорганизменные системы человека сходны и в чем различаются с популяционными системами других видо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8200" y="304920"/>
            <a:ext cx="803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истории человечеств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заимодейств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не все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ожительные - кооперация, но и не всег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рицательные - конкуренция)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являются одной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снов формирования общест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порождающих культуру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ую причину высокой приспособлен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д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это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енетическая изоляция утрачива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вою роль как основной движущей сил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я (как у других видов). Поэтому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асов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енетическая составляющая не есть главно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логическо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труктурирова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ида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omo sapie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760" y="3962520"/>
            <a:ext cx="8210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какой-то мере можно сказать, что функциональны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кологический аспект структуризации вида зде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ыходит на первый план.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Взаимодействуют не тол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индивидуумы и их группы, но подразделения вида, котор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в некоторой степени аналогичны популяциям, но г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рекомбинации (перемешивание генетического материа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гораздо сильнее выраже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828800" cy="23623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35800" y="304920"/>
            <a:ext cx="814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.Н. Гумилев (выдающийся отечественный историк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 определение единице структуризации челове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 показал, что системой структуризации, аналогично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  не абсолютно тождествен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й являет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ТНО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9360" y="495288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в Николае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умил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2590920"/>
            <a:ext cx="6400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тнос - это форма существования вид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omo sapien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торая, хоть и сильно отличается от популя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ругих видов, являются, как и о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1) формой существования вида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2)единицей взаимодействия со сред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Этническая дифференциация не тождественна расово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ингвистической (языковой), географической и даж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сем им вместе взяты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914400" y="3049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своей книге «Этногенез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сфера Земли» он попытался дать естественнонаучную картину 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нических систем, связанную с изменением частоты носителей наследуемого признака, который 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ил как ПАССИОНАР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2320" y="2971800"/>
            <a:ext cx="843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еории Л.Н. Гумилева, люди делятс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и основных наследуемых поведенческ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п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сионарии - те, чьи усилия направлены на осущест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-то цели, а не на поддержание собств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получ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2) гармонарии - тип активного обывателя, которые деляют т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т них требуется, не забывая о себе и о потом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3) субпассионарии - живущие сегодняшним дн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ботящиеся о будущем и не стремящиеся к какой-то ц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6705360" cy="3809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480" y="0"/>
            <a:ext cx="879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Л.Н. Гумилеву, частота пассионариев по мере протек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клов этногенеза изменяется: после «пассионарного толч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оследующего подьема наступает стабилизация, зат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надлом», инерционная фаза, «обскурация» и, наконец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гомеостаз». Пассионарность сначала возрастает, пот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инает убывать, и на фазах обскурации и гомеост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ся число субпассионари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5791320" y="1295280"/>
          <a:ext cx="30477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295280"/>
                    <a:ext cx="30477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5564880" y="144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45600" y="61722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21360" y="525780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обл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лерант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00800" y="1523880"/>
            <a:ext cx="22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обл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грессивны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еляю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2760" y="228600"/>
            <a:ext cx="87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отеза Д. Читти (1960) о поведенческом полиморфизме к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ханизме популяционных циклов у мелких млекопита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1066680"/>
            <a:ext cx="5562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гласно этой гипотез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ыгравшей ключевую р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популяцион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ологии, циклическая динамика популяций связана со сменой соотношения двух наследственных поведенческих типов. «Толерантные» особи имеют малую подвижность, но высокую плодовитость, что привод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росту численности. Однако они чувствительны к  повышению числа «агрессивных», склонных к расселению.  Агрессивные» менее плодовиты, и 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обладание приводит к снижению числен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744480" y="422280"/>
            <a:ext cx="79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НЯТИЕ АНТРОПОГЕОЦЕНОЗА (В.П. АЛЕКСЕЕ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838080" y="4114800"/>
          <a:ext cx="800100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114800"/>
                    <a:ext cx="800100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1145880" y="449568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озяйстве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43960" y="4572000"/>
            <a:ext cx="24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сплуатируем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рри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5200" y="838080"/>
            <a:ext cx="869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трополог В.П. Алексеев определял как антропогеоцено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систему, построенную на взаимодействии дву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систем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терминах экологии это- экологическая сист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огеоценотического уров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6080" y="2362320"/>
            <a:ext cx="771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е того, понятие «хозяйственный коллектив» близко 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нятию элементарной этнической группировки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нятие «эксплуатируемая территория» - к понят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вмещающий ландшафт» Л.Н. Гумиле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762120" y="609480"/>
            <a:ext cx="7648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озяйственный коллекти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по В.П. Алексееву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руктурирова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о функциям, связанным с взаимоотношениями с эксплуатируемой территорией (по разделению труд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«традиционных» обществах это разделение в определенной степени совпадает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ло-возрастным составом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3080" y="4267080"/>
            <a:ext cx="78220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ким образом, главными характеристик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ллектива по В.П. Алексееву выступают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исленность и функциональная структур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казатели, аналогичные главным экологическ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арактеристикам популя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35080" y="0"/>
            <a:ext cx="861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щая тенденция развития антропогеоценоз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ит в переходе от первого (более примитивног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а ко второму (более совершенному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6040" y="1523880"/>
            <a:ext cx="834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вый 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ког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озяйственный коллектив уси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атит на сбор того, что эксплуатируемая территор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изводит сама по себ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племена охотник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бирателей и рыболовов,  которые по другой классифик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нологов представляют соб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ределен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ультурно-хозяйственный 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7960" y="3886200"/>
            <a:ext cx="857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торой 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племена скотоводов и земледельцев, г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озяйственный коллекти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силия вкладывает не в с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го, что производит эксплуатируемая территория бе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яких усилий с его стороны, 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ольше забоится о созд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словий, повышающих продуктивность этой территории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акже условия получения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408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ТО ТАКОЕ ЭКОЛОГИЯ ЧЕЛОВЕКА? РАЗНЫЕ ПОД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2" marL="1040040" indent="-207720">
              <a:lnSpc>
                <a:spcPct val="100000"/>
              </a:lnSpc>
              <a:spcBef>
                <a:spcPts val="1100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иболее известный и понятный на уровне обыденного мышления подход восходит к первоначальному определению экологии Э. Гекк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гласно нему принимаются во внимание чисто биологические характеристики человека, а проблематика экологии человека занимается в основном медико-физиологическими проблемами воздействия факторов среды на здоровье людей. Однако с точки зрения современной экологии такой подход архаичен, являясь чисто аутэкологическ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9320" y="0"/>
            <a:ext cx="8410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трудно заметить, чт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нденция развития эт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х сист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антропогеоценозов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-первых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вторяет тенд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арактерные для неолитической (сельскохозяйственн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лобальной револю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во вторых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ответству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ношениям , возникающ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 Л.Н. Гумилеву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процессе этногене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возрастание уровня пассионарности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дии подъема сопровождается либ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ктивным созда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антропогенной, искусственной» сре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либо стремл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освоению новых «вмещающих ландшафтов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4520" y="3706920"/>
            <a:ext cx="7369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оме того, мы отметили много сходства (но и кор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личий) с процессами, происходящими на популяционн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не организаций других видов. Это, также как то, ч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суждавшиеся теоретические воззрения принадлежа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уманитариям, а отнюдь не популяционным эколага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зволяет считать, что методы популяционной экологии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ные ей закономерности небесполезно «примерит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к описанию процессов, происходящих в надорганизм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х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ция 8. Динамика численности челове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Демографический взрыв и демографически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153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154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162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делирование роста челове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29718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ерг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трович Кап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514600" y="990720"/>
            <a:ext cx="1960560" cy="25146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5029200" y="990720"/>
            <a:ext cx="3886200" cy="25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2209680" y="3962520"/>
          <a:ext cx="4724640" cy="2286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3962520"/>
                    <a:ext cx="4724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251460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9" name=""/>
          <p:cNvGraphicFramePr/>
          <p:nvPr/>
        </p:nvGraphicFramePr>
        <p:xfrm>
          <a:off x="228600" y="3525840"/>
          <a:ext cx="7391520" cy="284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525840"/>
                    <a:ext cx="73915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228600" y="3962520"/>
          <a:ext cx="8610480" cy="988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962520"/>
                    <a:ext cx="86104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4572000" y="0"/>
          <a:ext cx="5029200" cy="34290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0"/>
                    <a:ext cx="50292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4724280" y="3251160"/>
          <a:ext cx="4800600" cy="36068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24280" y="3251160"/>
                    <a:ext cx="48006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838080" y="5334120"/>
                <a:ext cx="236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80880" y="25718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0880" y="4419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erhuls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.-F. "Recherches mathematiques sur la loi d'accroissement de la population."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ouv. mem. de l'Academie Royale des Sci. et Belles-Lettres de Bruxell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8, 1-41, 18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280044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"/>
          <p:cNvGraphicFramePr/>
          <p:nvPr/>
        </p:nvGraphicFramePr>
        <p:xfrm>
          <a:off x="838080" y="3733920"/>
          <a:ext cx="5275440" cy="20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733920"/>
                    <a:ext cx="52754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4191120" y="304920"/>
          <a:ext cx="5181480" cy="2881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304920"/>
                    <a:ext cx="5181480" cy="28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457200" y="5638680"/>
                <a:ext cx="4114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96" name=""/>
          <p:cNvGraphicFramePr/>
          <p:nvPr/>
        </p:nvGraphicFramePr>
        <p:xfrm>
          <a:off x="4572000" y="3429000"/>
          <a:ext cx="4267080" cy="29718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3429000"/>
                    <a:ext cx="42670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емографический взрыв» и «демографический переход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647960" y="2666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Рост численности человечества носил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гиперболический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характер, особенно после «промышленной революции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440" y="53337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ннис Медоу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647960" y="3809880"/>
            <a:ext cx="4190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Одновременно (особенно в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последнее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время) наблюдается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«демографический переход»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(более заметный в «развитых странах»- некоторое снижение темпов роста одновременно с постарением населения из-за синхронного снижения и рождаемости и смертност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362320" cy="32767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4343400" y="205740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7b7b9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380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ТО ТАКОЕ ЭКОЛОГИЯ ЧЕЛОВЕКА? РАЗНЫЕ ПОД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520" y="1828800"/>
            <a:ext cx="8841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торой подход, трактует экологию человека чрезвыча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широко, как конгломерат естественных и гуманитар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исциплин, в котором к научному знанию примеш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ределенное мировоззрение и даже деятельнос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правленная на улучшение взаимоотношений природы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бще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Этот подход распространен в Западной Европ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ично в Северной Америке. При таком понимании тер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мет и методы, что является необходимыми характерист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учной дисципл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7a9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кция 9. Современный этап: достоинства и вызо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емографический переход» - признак стабилиза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04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04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ровень жизни и рождае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685800" y="2100240"/>
            <a:ext cx="7763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80880" y="571680"/>
            <a:ext cx="838224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6150240" cy="28954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609480" y="4191120"/>
            <a:ext cx="949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заметное сначала истощение медлен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обновляющихся рес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с повышением их относительного потребл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лжно смениться резким падением их доступного коли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84360" y="228600"/>
            <a:ext cx="68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стощение ресурсов - возможная причина сп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18669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962520" cy="26593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914400" y="6172200"/>
            <a:ext cx="3429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 = rN(1-N/K)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3824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берт Мэ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086600" y="5791320"/>
          <a:ext cx="1600200" cy="76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5791320"/>
                    <a:ext cx="16002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6019920" y="3581280"/>
          <a:ext cx="2666880" cy="17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3581280"/>
                    <a:ext cx="26668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5410080" y="990720"/>
          <a:ext cx="3353040" cy="22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7">
                    <a:alphaModFix amt="50000"/>
                  </a:blip>
                  <a:stretch/>
                </p:blipFill>
                <p:spPr>
                  <a:xfrm>
                    <a:off x="5410080" y="990720"/>
                    <a:ext cx="33530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762120" y="419112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y R.M. Biological popu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eing difference equ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ble points, cycles, snd cha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J. Theor. Biol., 1975, vol.5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2, p. 511-5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04920" y="14479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Технократический оптимизи» вызывает сом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9960" y="3048120"/>
            <a:ext cx="852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ледовало бы обратить больше внимания 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щность человека с другими биологическими видами, учитывая багаж, накопленный класс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кологи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8:50:56Z</dcterms:created>
  <dc:creator>Кряжимский Ф. В.</dc:creator>
  <dc:description/>
  <dc:language>en-US</dc:language>
  <cp:lastModifiedBy>user</cp:lastModifiedBy>
  <dcterms:modified xsi:type="dcterms:W3CDTF">2008-04-11T08:15:19Z</dcterms:modified>
  <cp:revision>30</cp:revision>
  <dc:subject/>
  <dc:title>УМКД "Экологическая демография человека"</dc:title>
</cp:coreProperties>
</file>